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92520" y="404640"/>
            <a:ext cx="640872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. 3.  PROMEDIOS A NIVEL NACIONAL, SEGÚN SECCIONE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  (CIIU) DE ACTIVIDAD ECONÓMIC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936880" y="1268280"/>
            <a:ext cx="4463640" cy="5216760"/>
            <a:chOff x="2936880" y="1268280"/>
            <a:chExt cx="4463640" cy="5216760"/>
          </a:xfrm>
        </p:grpSpPr>
        <p:sp>
          <p:nvSpPr>
            <p:cNvPr id="40" name=""/>
            <p:cNvSpPr/>
            <p:nvPr/>
          </p:nvSpPr>
          <p:spPr>
            <a:xfrm>
              <a:off x="2936880" y="1268280"/>
              <a:ext cx="3696480" cy="48783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183840" y="1490760"/>
              <a:ext cx="3818520" cy="4767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520080" y="1773360"/>
              <a:ext cx="3880440" cy="471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489480" y="2432160"/>
              <a:ext cx="3888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12960" y="3284640"/>
              <a:ext cx="2569320" cy="17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ersonal Ocup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er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ción 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or Agreg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220640" y="2516040"/>
              <a:ext cx="262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2.3.1.  POR ESTABLE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8T14:12:00Z</dcterms:created>
  <dc:creator/>
  <dc:description/>
  <dc:language>en-US</dc:language>
  <cp:lastModifiedBy>mviera</cp:lastModifiedBy>
  <cp:lastPrinted>2000-05-17T14:30:24Z</cp:lastPrinted>
  <dcterms:modified xsi:type="dcterms:W3CDTF">2005-09-02T19:38:36Z</dcterms:modified>
  <cp:revision>22</cp:revision>
  <dc:subject/>
  <dc:title>1. INVESTIGACIONES PERMANENTES</dc:title>
</cp:coreProperties>
</file>