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987-18DB-461F-8984-9F3F2818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380-CF8C-4C88-A09D-C03896A4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767-5D60-4537-B83A-C511513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EB-2E2B-456F-9BE2-3C8A25BB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70B-49E0-49AB-B906-714E1D45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E70-6FDC-42E8-ABB4-F6036460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9B3-5B7C-4183-9797-2D715DE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C0A-E1C6-4001-BAF7-25A1A77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B0C-D6C4-4744-8D0A-EF89C323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E2B-D717-4EBF-82A6-C2C45EB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992-27D2-46F1-BB03-01841A7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655-F1A8-4D3E-9983-AA5A2F1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238-C63C-43F9-BE38-B0BE941BA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773360"/>
            <a:ext cx="3095640" cy="417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STEMA DE ESTADÍSTICAS ECONÒ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ORDINADOR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IDER: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garita Vi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EMBROS DE EQUIPO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elo Loza             Marco Pazmiñ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scar Aguir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nca Almachi         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ID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ncisco Camacho           Marisol González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rge Salazar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 incluye además al personal que realiza el operativo de campo y la critica y codificación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300720" y="6021360"/>
            <a:ext cx="2089080" cy="503280"/>
            <a:chOff x="6300720" y="6021360"/>
            <a:chExt cx="2089080" cy="503280"/>
          </a:xfrm>
        </p:grpSpPr>
        <p:sp>
          <p:nvSpPr>
            <p:cNvPr id="45" name=""/>
            <p:cNvSpPr/>
            <p:nvPr/>
          </p:nvSpPr>
          <p:spPr>
            <a:xfrm>
              <a:off x="6300720" y="6021360"/>
              <a:ext cx="2017800" cy="503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32400" y="6021360"/>
              <a:ext cx="2057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r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LLERES GRÁFICOS DEL IN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497640" y="303120"/>
            <a:ext cx="1603440" cy="1038240"/>
            <a:chOff x="6497640" y="303120"/>
            <a:chExt cx="1603440" cy="1038240"/>
          </a:xfrm>
        </p:grpSpPr>
        <p:sp>
          <p:nvSpPr>
            <p:cNvPr id="48" name=""/>
            <p:cNvSpPr/>
            <p:nvPr/>
          </p:nvSpPr>
          <p:spPr>
            <a:xfrm>
              <a:off x="6755040" y="303120"/>
              <a:ext cx="11736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75400" y="423720"/>
              <a:ext cx="28260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97640" y="612720"/>
              <a:ext cx="3193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58280" y="509400"/>
              <a:ext cx="1908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8800" y="5079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55120" y="509400"/>
              <a:ext cx="4896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09120" y="509400"/>
              <a:ext cx="460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50160" y="509400"/>
              <a:ext cx="208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5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18560" y="509400"/>
              <a:ext cx="619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83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4760" y="509400"/>
              <a:ext cx="7632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59560" y="626760"/>
              <a:ext cx="748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27960" y="626760"/>
              <a:ext cx="6984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04280" y="628560"/>
              <a:ext cx="633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66200" y="63000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88160" y="628560"/>
              <a:ext cx="7812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7720" y="6267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6120" y="62676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10640" y="630000"/>
              <a:ext cx="316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74000" y="630000"/>
              <a:ext cx="619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39160" y="630000"/>
              <a:ext cx="5076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46960" y="749160"/>
              <a:ext cx="5076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96280" y="747360"/>
              <a:ext cx="5076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51720" y="749160"/>
              <a:ext cx="4464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77280" y="74592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1800" y="749160"/>
              <a:ext cx="619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15160" y="749160"/>
              <a:ext cx="208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37480" y="747360"/>
              <a:ext cx="4932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93280" y="749160"/>
              <a:ext cx="4428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32880" y="74916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56640" y="747360"/>
              <a:ext cx="619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10640" y="745920"/>
              <a:ext cx="6984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18640" y="749160"/>
              <a:ext cx="5544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88160" y="857160"/>
              <a:ext cx="637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50080" y="857160"/>
              <a:ext cx="5112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99400" y="853920"/>
              <a:ext cx="7632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75720" y="857160"/>
              <a:ext cx="50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7920" y="857160"/>
              <a:ext cx="7632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05680" y="857160"/>
              <a:ext cx="5112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31200" y="421920"/>
              <a:ext cx="60300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54840" y="1049040"/>
              <a:ext cx="1443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47080" y="1001520"/>
              <a:ext cx="31752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360" y="1000080"/>
              <a:ext cx="27000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7080" y="996840"/>
              <a:ext cx="258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01800" y="1773360"/>
            <a:ext cx="4464000" cy="475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1844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852640"/>
            <a:ext cx="284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ÉCNICO DE ASEGURAMI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CALIDAD DE GEST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14880" y="328464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eovani Guerra Corr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13080" y="2852640"/>
            <a:ext cx="1908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í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459240"/>
            <a:ext cx="2881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uis Guadalupe Cast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COORDINADOR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716280"/>
            <a:ext cx="2305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ía Soledad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TÉCNICA DE GEST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ANÁLISIS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3640" y="3933720"/>
            <a:ext cx="25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ÉCNICO DE GEST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PRODUCCIÓN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36720" y="515772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atricio López Toromor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ÉCNICO DE GEST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RR.HH. Y SERVICIO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734080"/>
            <a:ext cx="299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lando Narváez Enríque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ÉCNICO DE GEST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RECURSOS FINANCIE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2376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oberto Sáenz Ozaet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5080" y="4292640"/>
            <a:ext cx="230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Walter Villafuerte Villavicenc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NOR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5734080"/>
            <a:ext cx="251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aciela Monca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REGIONAL DEL CEN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5229360"/>
            <a:ext cx="230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swaldo Uyaguari Quezad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508640"/>
            <a:ext cx="28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ÉCNICO DE GESTIÓN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255760"/>
            <a:ext cx="248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SUBROGANT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5-09-06T14:10:47Z</dcterms:modified>
  <cp:revision>78</cp:revision>
  <dc:subject/>
  <dc:title>Sin título de diapositiva</dc:title>
</cp:coreProperties>
</file>