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2722680" y="2637000"/>
            <a:ext cx="482256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RESUMEN GRÁ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5-09-01T23:38:46Z</dcterms:modified>
  <cp:revision>25</cp:revision>
  <dc:subject/>
  <dc:title>CALENDARIOS INVESTIGACIONES</dc:title>
</cp:coreProperties>
</file>