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649600" y="2852640"/>
            <a:ext cx="511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SÍNTESIS METOD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5-09-01T23:47:02Z</dcterms:modified>
  <cp:revision>27</cp:revision>
  <dc:subject/>
  <dc:title>CALENDARIOS INVESTIGACIONES</dc:title>
</cp:coreProperties>
</file>