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369-9FCE-4C6C-82DB-A830F0D7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36D7-E356-46E0-866F-DB59BA7F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C79-6E2E-4272-A966-C42B0463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A92-0A58-4CC3-90FC-AF7B7D02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2F5-AA5D-4D5A-83E7-B1F904B1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3A3F-7463-4570-8847-FBD45435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17B8-7A75-4B73-A4EF-1B1F5757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F46-0EE7-4479-ADFE-29A96534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2B8-9C39-4703-817A-23A1EF64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B62D-CEA2-4390-B065-7CE17522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E3A-791D-473A-8FFB-0F72C7FA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3BB-E8CE-4628-BDA8-1B5B98A5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47DB-E1A8-4A1B-9ABD-E31C4D126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2666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5146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520"/>
            <a:ext cx="7925040" cy="586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7560" y="685800"/>
            <a:ext cx="2998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219320"/>
            <a:ext cx="7010280" cy="59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stituto Nacional de Estadística y Censos (INEC), como ente rector de la producción estadística en el país, en su afán de propender a la difusión oportuna de los resultados más agregados correspondientes a la producción industrial, se complace en  poner a disposición de los usuarios y público en general, los resultados de la Encuesta Nacional por Muestreo de la Producción Industrial del año 2004, investigación estadística pionera en su género en el paí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presente publicación se basa en una Muestra Probabilística de Establecimientos Económicos con 10 o más personas ocupadas, correspondientes a las Encuestas Económicas continuas de Manufactura y Minería; Comercio  Interno y Servici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vestigación cubre las Secciones C (Explotación de Minas y Canteras); D (Industrias Manufactureras); G (Comercio al por Mayor y  al por Menor; Reparación de Vehículos Automotores, Motocicletas, Efectos Personales y Enseres Domésticos) ;  H (Hoteles y Restaurantes); J (Intermediación Financiera); K (Actividades Inmobiliarias, Empresariales y de Alquiler);  N (Actividades de Servicios Sociales y de Salud); y, O (Otras Actividades Comunitarias, Sociales y Personales de tipo Servicio), de acuerdo con la Clasificación Ampliada de las Actividades Económicas de la CIIU- TERCERA REVISIÒN (CIIU 3 Naciones Unidas ST/ ESA/STAT/SER/4  Rev. 3 de 1989). Los resultados se presentan a nivel nacional y se refieren a número de establecimientos, personal ocupado, remuneraciones, producción total, consumo intermedio, valor agregado, depreciaciones, formación bruta de capital, activos fijos y existenc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EC al hacer la entrega de este documento, deja constancia del más profundo agradecimiento por la colaboración brindada por empresarios y propietarios de establecimientos y al mismo tiempo, les reitera el pedido cordial de seguir proporcionando en forma oportuna los datos necesarios para la elaboración de esta public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EPTIEMBRE 2.005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08:49:52Z</dcterms:created>
  <dc:creator>Estadísticas Industriales</dc:creator>
  <dc:description/>
  <dc:language>en-US</dc:language>
  <cp:lastModifiedBy>mpazmino</cp:lastModifiedBy>
  <cp:lastPrinted>2000-09-19T08:31:46Z</cp:lastPrinted>
  <dcterms:modified xsi:type="dcterms:W3CDTF">2005-08-29T17:02:39Z</dcterms:modified>
  <cp:revision>25</cp:revision>
  <dc:subject/>
  <dc:title>Sin título de diapositiva</dc:title>
</cp:coreProperties>
</file>