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57240" y="2492280"/>
            <a:ext cx="6551640" cy="144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44520" y="227664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57240" y="2781360"/>
            <a:ext cx="66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ÍNDICE DE CUADROS ESTAD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viera</cp:lastModifiedBy>
  <cp:lastPrinted>2000-05-17T16:40:52Z</cp:lastPrinted>
  <dcterms:modified xsi:type="dcterms:W3CDTF">2005-09-01T23:50:30Z</dcterms:modified>
  <cp:revision>28</cp:revision>
  <dc:subject/>
  <dc:title>CALENDARIOS INVESTIGACIONES</dc:title>
</cp:coreProperties>
</file>