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8120" y="2637000"/>
            <a:ext cx="539748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0120" y="228600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2650680" y="2781360"/>
            <a:ext cx="48229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RESUMEN EJ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5-09-01T20:43:52Z</dcterms:modified>
  <cp:revision>24</cp:revision>
  <dc:subject/>
  <dc:title>CALENDARIOS INVESTIGACIONES</dc:title>
</cp:coreProperties>
</file>