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0F0-C6DA-4966-85BA-563E31FE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8B5-CDB7-4760-B058-139954E1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861-FD03-4DD2-B97E-9DBCB48C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C0E-2E8D-43D1-B402-2D524B75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CEF-4C52-45CC-B806-A3CEC79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174-052C-415E-8963-2F1C827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6B4-66C4-46CD-97CF-57DAEAC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213-2FCA-4229-92AD-EF861111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DAB-FCA7-4D71-A294-39169EE9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955-2B7B-4890-8F15-0E4FD76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C13-2F21-4DC9-9304-6EC61BF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26A-0A69-4B08-936C-BF14C88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BCF5-6833-4934-B4EF-58B0944EF7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8"/>
          <p:cNvSpPr/>
          <p:nvPr/>
        </p:nvSpPr>
        <p:spPr>
          <a:xfrm>
            <a:off x="5364000" y="126828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5292720" y="4724280"/>
            <a:ext cx="327672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64000" y="1196640"/>
            <a:ext cx="3276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ECONÓMICAS ESTRUCTURAL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ablo Marcelo Loza Ceval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Fausto Flo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1"/>
          <p:cNvSpPr/>
          <p:nvPr/>
        </p:nvSpPr>
        <p:spPr>
          <a:xfrm>
            <a:off x="826920" y="260280"/>
            <a:ext cx="4191120" cy="648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BYRON ANTONIO VILLACI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TOR EJECU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OORDINADOR TÉCNIC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ÉSAR OSWALDO ZANAFRIA NIQUINGA   </a:t>
            </a:r>
            <a:r>
              <a:rPr b="0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 DE ASESORÍA JURÍ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AMILE CAMPOZANO VÁSQ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PLANIFICACIÓ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BRENDA SEMPÉRTEGUI VANE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SECRETARÍA GENERAL Y GESTIÓN DOCU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RUTH ELENA PUYOL CORDER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ADMINISTRACIÓN DEL TALENTO HUMA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ADMINISTRATIVO Y  FINANCI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AVID GONZALO VERA ALCI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METODOLOG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ROSA CATALINA VALLE PIÑUE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INFORMACIÓN CARTOGRÁFICA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ESTADÍSTICAS AMBIENT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ALIA MAGALY PAREDES B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LUIS GÓMEZ PALACI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ELIZABETH GEOCONDA OCAMP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DE TECNOLOGÍAS DE LA INFORMACIÓN Y COMUN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SHYRLEY JACQUELINE PADILLA 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E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OSWALDO UYAGUARI QUEZA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 REGIONAL DEL SUR (E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DIRECTORA REGIONAL DEL CENTR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24"/>
          <p:cNvSpPr/>
          <p:nvPr/>
        </p:nvSpPr>
        <p:spPr>
          <a:xfrm>
            <a:off x="2340000" y="260280"/>
            <a:ext cx="1224000" cy="792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0"/>
          <p:cNvSpPr/>
          <p:nvPr/>
        </p:nvSpPr>
        <p:spPr>
          <a:xfrm>
            <a:off x="5486400" y="1268280"/>
            <a:ext cx="3048120" cy="289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5334120" y="765000"/>
            <a:ext cx="3200400" cy="36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5867280" y="76500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Black"/>
              </a:rPr>
              <a:t>AÑO 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5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7" descr=""/>
          <p:cNvPicPr/>
          <p:nvPr/>
        </p:nvPicPr>
        <p:blipFill>
          <a:blip r:embed="rId5"/>
          <a:stretch/>
        </p:blipFill>
        <p:spPr>
          <a:xfrm>
            <a:off x="5508720" y="5157720"/>
            <a:ext cx="2808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EC Marcelo Loza</cp:lastModifiedBy>
  <dcterms:modified xsi:type="dcterms:W3CDTF">2012-01-30T16:52:51Z</dcterms:modified>
  <cp:revision>46</cp:revision>
  <dc:subject/>
  <dc:title>Presentación de PowerPoint</dc:title>
</cp:coreProperties>
</file>