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DDA-CB67-4051-A7AF-4F1229BB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652-A3B6-48EE-9229-961A3B8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E5B-3DEB-44F0-A800-76995815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835-6EC1-4E47-B211-AEA463E6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4C2-02B5-4B4C-A448-61857F8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DA5-830E-4E60-8A32-73282C4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918-E5EC-4A80-B4DC-984376FC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C08-2E0D-4145-BCA0-4774351A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A82-41BA-49DD-873F-6170F40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78A-D8A5-4A45-B845-5A26221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790-42D7-462B-9D4D-567D7BC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48D-CA1A-4948-810D-9E86B41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AC0-A0DF-4ADF-867F-E410CB4FDA3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Pablo Marcelo Loza Cevallos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hny Cevallos Muño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I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Y PLANIFICAC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Fabián Santacruz Guzmá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A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Hortencia Unda Pro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Gustavo Ví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A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Roció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SOCIO-DEMOGRAF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A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Robert Sierra Rey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914400"/>
            <a:ext cx="17524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oza</cp:lastModifiedBy>
  <dcterms:modified xsi:type="dcterms:W3CDTF">2003-12-10T15:25:08Z</dcterms:modified>
  <cp:revision>9</cp:revision>
  <dc:subject/>
  <dc:title>Presentación de PowerPoint</dc:title>
</cp:coreProperties>
</file>