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AF31-DC56-4A63-B011-3A72F825B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2F3E-AD0A-4F06-9A3C-82ADB944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548-E356-442A-AFA8-F63C8C21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74A-5173-4023-867E-AF26B4C9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44D5-C108-4BE1-8ED6-1F45A02C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6D8C-FB63-4E9D-9E19-4DB9C377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809A-E875-4AA5-97C1-BF77FDA5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729F-6584-4B9C-8372-68DFB90A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633C-1F67-4C21-97D9-7A8815ADF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75E7-DF45-4335-96F6-12177658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C4F7-872A-4563-8CF5-6EA1FECD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98DC-8429-4D1D-81C5-9D5D73F7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FA9B5-5149-49AC-A470-F4884EAE472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oleObject" Target="../embeddings/oleObject1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4120" y="2133720"/>
            <a:ext cx="3273480" cy="3200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4120" y="5562720"/>
            <a:ext cx="327636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3760" y="2133720"/>
            <a:ext cx="3276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ADMINISTRACION CENT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EPARTAMENTO DE ESTADISTICAS INDUSTR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Arturo de la Cadena B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Pablo Marcelo Loza Cevallos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ANALISIS DE SISTEM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Oscar Aguir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 Black"/>
              </a:rPr>
              <a:t>DIRECCIONES REGION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Francisco Camach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Jorge Salaz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Ruth Riv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75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Dora Tino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IMPRE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 Black"/>
              </a:rPr>
              <a:t>TALLERES GRAFICOS DEL I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ctr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685800"/>
            <a:ext cx="243828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685800"/>
            <a:ext cx="4191120" cy="5715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 Black"/>
              </a:rPr>
              <a:t>DIRECTOR GENER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Carlos Cortez Castr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 Black"/>
              </a:rPr>
              <a:t>           </a:t>
            </a:r>
            <a:r>
              <a:rPr b="1" lang="es-ES_tradnl" sz="800" spc="-1" strike="noStrike">
                <a:solidFill>
                  <a:srgbClr val="000000"/>
                </a:solidFill>
                <a:latin typeface="Arial Black"/>
              </a:rPr>
              <a:t>SUBDIRECTOR GENERAL     SUBDIRECTOR GENERAL TECNIC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                 </a:t>
            </a:r>
            <a:r>
              <a:rPr b="1" lang="es-ES_tradnl" sz="700" spc="-1" strike="noStrike">
                <a:solidFill>
                  <a:srgbClr val="000000"/>
                </a:solidFill>
                <a:latin typeface="Arial Black"/>
              </a:rPr>
              <a:t>Jorge Magaldi Sánchez                               Galo Arias Veloz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UDITOR GENER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arco Villavicencio Ortiz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ASUNTOS JURIDICOS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Flavia Racines Carr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ESARROLLO ESTADISTICO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Y PLANIFICACION(E)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emigio Burbano Rive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DIFUSION ESTADISTIC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lexis Pérez Niet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RECURSOS HUMANOS Y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ERVICIOS ADMINISTRATIVO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mmel Illescas Trujill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FINANCIE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ustavo Vintimilla Velasc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ESTADIST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ECONOM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cío Zambrano Zambra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DE ESTADISTIC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SOCIO-DEMOGRAFICAS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Máximo Ortega Galarz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A DE INFORMATICA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Adriana Espinoza Mor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NOR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Vìctor Manuel Escoba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CENTR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Carlos Chaquinga Mail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S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Guillermo Mora Palacio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DIRECTOR REGIONAL DEL LITORAL (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75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" spc="-1" strike="noStrike">
                <a:solidFill>
                  <a:srgbClr val="000000"/>
                </a:solidFill>
                <a:latin typeface="Arial Black"/>
              </a:rPr>
              <a:t>Roberto Sáenz Ozaet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0" y="914400"/>
            <a:ext cx="1295280" cy="38088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DIRECTORIO DEL IN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 DICIEMBRE DE 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2133720"/>
            <a:ext cx="3048120" cy="3045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RSONAL TECNICO RESPONS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685800"/>
            <a:ext cx="3200400" cy="129528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38880" y="1066680"/>
            <a:ext cx="12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</a:rPr>
              <a:t>AÑO 20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838080"/>
            <a:ext cx="1828800" cy="533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 rot="10800000">
          <a:off x="5562720" y="837720"/>
          <a:ext cx="160020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 rot="10800000">
                    <a:off x="5562720" y="837720"/>
                    <a:ext cx="160020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loza</cp:lastModifiedBy>
  <dcterms:modified xsi:type="dcterms:W3CDTF">2003-11-10T15:54:31Z</dcterms:modified>
  <cp:revision>4</cp:revision>
  <dc:subject/>
  <dc:title>Presentación de PowerPoint</dc:title>
</cp:coreProperties>
</file>