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6643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0668-48E6-4570-854F-D300B7CED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2C2C-7149-4C27-91DB-17D567848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3B85-279D-4375-89F6-2DE61A597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0CC6F-CEFA-4F00-B34D-081ED9A69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F0FA-E22B-42F6-B4CF-51B859BE6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6133-0055-4573-B19C-A990EFD9E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F39C-E234-455C-93D9-FFDFA0113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CD32-A47D-4D46-8823-2F650FF80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24C6-E3B8-4F02-8BE3-7C79F40F4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AE32-B34A-4B7D-8E13-5AE2291E0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A1C2-F392-4890-A384-7769FBBA9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F5B4-8B95-4EB0-8E32-B7CC6CC2F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2D680-6C0A-4A39-AAFC-E547B4C6DD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4120" y="2133720"/>
            <a:ext cx="3273480" cy="3200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4120" y="5562720"/>
            <a:ext cx="327636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5333760" y="2133720"/>
            <a:ext cx="327636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000000"/>
                </a:solidFill>
                <a:uFillTx/>
                <a:latin typeface="Arial Black"/>
              </a:rPr>
              <a:t>ADMINISTRACION CENT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 Black"/>
              </a:rPr>
              <a:t>DEPARTAMENTO DE ESTADISTICAS INDUSTRI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Jaime Cevallos Sal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ctr">
              <a:lnSpc>
                <a:spcPct val="7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 Black"/>
              </a:rPr>
              <a:t>Pablo Marcelo Loza Cevallo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 Black"/>
              </a:rPr>
              <a:t>ANALISIS DE SISTEM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Oscar Aguir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000000"/>
                </a:solidFill>
                <a:uFillTx/>
                <a:latin typeface="Arial Black"/>
              </a:rPr>
              <a:t>DIRECCIONES REGION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ctr">
              <a:lnSpc>
                <a:spcPct val="7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ctr">
              <a:lnSpc>
                <a:spcPct val="7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Francisco Camach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ctr">
              <a:lnSpc>
                <a:spcPct val="7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Luis Murill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ctr">
              <a:lnSpc>
                <a:spcPct val="7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Graciela Tob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ctr">
              <a:lnSpc>
                <a:spcPct val="7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Santiago Abri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Black"/>
              </a:rPr>
              <a:t>IMPRES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Black"/>
              </a:rPr>
              <a:t>TALLERES GRAFICOS DEL I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685800"/>
            <a:ext cx="243828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685800"/>
            <a:ext cx="4191120" cy="5715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 Black"/>
              </a:rPr>
              <a:t>DIRECTOR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Víctor Manuel Escob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Black"/>
              </a:rPr>
              <a:t>           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SUBDIRECTOR GENERAL     SUBDIRECTOR GENERAL TECN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                 </a:t>
            </a: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Jorge Magaldi Sánchez                               Galo Arias Veloz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AUDITOR GENER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Marco Villavicencio Ortiz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A DE ASUNTOS JURIDICOS (E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Flavia Racines Carrasc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DE DESARROLLO ESTADISTICO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Y PLANIFICACION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Milton Naranjo Rivadeneir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DE DIFUSION ESTADISTICA (E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Luis Guadalupe Castill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DE RECURSOS HUMANOS Y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SERVICIOS ADMINISTRATIVO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César Fierro Ca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FINANCIERO (E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Orlando Narváez Enríquez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DE ESTADISTICA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ECONOMICAS (E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Arturo de la Cadena Báez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DE ESTADISTICA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SOCIO-DEMOGRAFICAS (E)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Stalin Ramos Alvarad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DE INFORMATICA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Carlos Calispa Pedraz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REGIONAL DEL NOR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Edwin Fuertes López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REGIONAL DEL CENTR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Fernando Sandov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A REGIONAL DEL SUR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Ana Gabriela Jiménez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REGIONAL DEL LITORAL (E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Roberto Sáenz Ozaet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0" y="914400"/>
            <a:ext cx="1295280" cy="38088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DIRECTORIO DEL IN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486400" y="2133720"/>
            <a:ext cx="3048120" cy="30456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PERSONAL TECNICO RESPONS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4120" y="685800"/>
            <a:ext cx="3200400" cy="129528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238880" y="1066680"/>
            <a:ext cx="12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Black"/>
              </a:rPr>
              <a:t>AÑO 200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57400" y="838080"/>
            <a:ext cx="1828800" cy="533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 rot="10800000">
          <a:off x="5562720" y="837720"/>
          <a:ext cx="1600200" cy="99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 rot="10800000">
                    <a:off x="5562720" y="837720"/>
                    <a:ext cx="16002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loza</cp:lastModifiedBy>
  <dcterms:modified xsi:type="dcterms:W3CDTF">2004-02-02T20:51:16Z</dcterms:modified>
  <cp:revision>11</cp:revision>
  <dc:subject/>
  <dc:title>Presentación de PowerPoint</dc:title>
</cp:coreProperties>
</file>