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496-22D8-480D-92FA-79B02037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102-5C8B-4348-AC05-447FA046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1DB-63E6-41E7-BF10-216506D1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251-80DC-4486-90EB-77DCA518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B3A-D6A0-433A-B320-A89DB271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AC9-9D24-4093-A237-201DACBE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C3-AFEF-4A4F-BD4C-9ACA28D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74A-D088-428D-90D1-B7EC5959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EB3-328A-4C2D-B58A-9D31806C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292-5955-4593-9DD4-AF07C3C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9EC-3845-42E3-9B22-CF027F4B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AE9-2FA9-4CE1-9FBF-0ADCBD2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9F79-76EC-40C8-B61C-A1186C559D8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Oswaldo Cevallos Sa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Pablo Marcelo Loza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OMUNICACIÓN Y DIFUSIÓN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Luis Alfredo Carrillo Jarami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yriam Soledad Peñafiel Ullauri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EGURAMIENTO DE LA CALIDAD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E GESTIÓN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ictor Manuel Guanolu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nici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OORDINADOR DE COMUNICACIÓN Y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erónica Patricia Benalcázar Ro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GESTIÓN DE LA PRODUCC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 Córdov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GESTIÓN DEL ANÁLISIS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andra Elizabeth Sarango Loachamí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GESTIÓN DE DESARROLLO TECNOLÓGIC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elo Ruano Chamor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GESTIÓN DE DESARROLLO ORGANIZAC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Ramiro Sandoval Villar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GESTIÓN DE RECURSOS FINANCIER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DESCONCEN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afael Emilio Valdez Reque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Jackson Armando Villota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Aníbal Sandoval Moli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Katty Alexandra Andrade Laz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ec</cp:lastModifiedBy>
  <dcterms:modified xsi:type="dcterms:W3CDTF">2005-01-14T16:43:47Z</dcterms:modified>
  <cp:revision>10</cp:revision>
  <dc:subject/>
  <dc:title>Presentación de PowerPoint</dc:title>
</cp:coreProperties>
</file>