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9A3-D645-4FE6-A9EC-CFE08099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DE9-8BDF-4B4F-8859-626951F9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A2F-A441-4F21-ACD8-3F293058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D67-24B2-4BB9-AF2B-176F7082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E0C-B3BD-43EF-9173-154862DD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B57-6C5E-4860-A643-4A7E3981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070-7A69-41FB-890D-F8C5A85A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089-FE74-4351-BE2C-B7EDF24C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FF2-B21A-4C49-A3E1-D8CE570F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C81-99B6-4011-97FD-BBA0FD7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B18-2522-4A46-9BAA-A9890403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D57-E602-4925-9BE5-4C1531E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BC4F-FBD3-4509-8775-CAB4FE63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ISTEMAS DE ESTADÍSTIC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rturo De La Cadena B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Oscar Aguirre M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Blanca Almach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egional del Norte: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Francisco Camach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egional del Litoral: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rge Salaz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egional del Sur: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Marisol Gonzál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egional del Centro: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OMUNICACIÓN Y DIFUSIÓN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rge Magaldi Sanch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TOR GENERAL, SUBROG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Milton Altuna</a:t>
            </a:r>
            <a:r>
              <a:rPr b="0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Hidalgo   </a:t>
            </a:r>
            <a:r>
              <a:rPr b="0" lang="es-ES_tradnl" sz="7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TECNICO DE ASEGURAMIENTO DE LA CALIDAD DE GESTIÓN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Giovani Guerra Corre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 TECNICO JURID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Marco Vinici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Luis Guadalupe Castill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OORDINADOR DE COMUNICACIÓN SOC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GESTIÓN DE PRODUCCIÓN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Maria Soledad Carvaja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TECNICA DE GESTIÓN DE ANÁLISIS ESTADÍSTI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arlos Obando Rev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TECNICO DE GESTIÓN DE DESARROLLO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Patricio López Toromoren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RECURSOS HUMANOS 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Orlando Ramiro Narváez Enríqu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TECNICO DE GESTIÓN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Roberto Sáenz Ozaet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Walter Villafue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NORT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Graciela Moncayo Núñ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Oswaldo Uyaguari Quez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SUR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295280" cy="3812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RECT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580000" y="907920"/>
            <a:ext cx="1513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aguirre</cp:lastModifiedBy>
  <dcterms:modified xsi:type="dcterms:W3CDTF">2006-01-27T21:55:13Z</dcterms:modified>
  <cp:revision>23</cp:revision>
  <dc:subject/>
  <dc:title>Presentación de PowerPoint</dc:title>
</cp:coreProperties>
</file>