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671-A4DF-4658-A213-F5E0BB04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978-DE83-4722-98B7-9029FB27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509-65A1-4725-9DAD-B0C11872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42D-DD27-4AAE-8481-A33680C5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8E7-5142-4E83-8CDF-19429491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EAA-7820-4486-A02C-7418A16F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F69-BF02-4386-BD37-89C1FCBB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78F-58A6-4716-8006-0AF3402A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1BC-CEF2-4E4B-B8A3-D6955C78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B79-6DCE-41FD-A239-5779ACD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25E-FDA7-46E6-A428-AB437EF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198-F674-4D22-A783-534B5C57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1636-33F6-4983-83D4-09787C6E8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ISTEMAS DE ESTADÍSTIC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Arturo De La Cadena Bá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Pablo Marcelo Loza Cevall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Blanca Almach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egional del Norte: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Francisco Camach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egional del Litoral: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rge Salaz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egional del Sur: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Marisol Gonzál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egional del Centro: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ora Tino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COMUNICACIÓN Y DIFUSIÓN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TALLERES GRÁFICOS DEL INE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Marco Quinteros Vela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Milton Altuna</a:t>
            </a:r>
            <a:r>
              <a:rPr b="0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Hidalgo   </a:t>
            </a:r>
            <a:r>
              <a:rPr b="0" lang="es-ES_tradnl" sz="7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TECNICO DE ASEGURAMIENTO DE LA CALIDAD DE GESTIÓN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Giovani Guerra Corre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 TECNICO JURID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Marco Vinici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Luis Guadalupe Castill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COORDINADOR DE COMUNICACIÓN SOC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GESTIÓN DE PRODUCCIÓN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Maria Soledad Carvajal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TECNICA DE GESTIÓN DE ANÁLISIS ESTADÍSTIC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Carlos Obando Rev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TECNICO DE GESTIÓN DE DESARROLLO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Patricio López Toromoren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RECURSOS HUMANOS Y SERVICIOS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Orlando Ramiro Narváez Enríqu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TECNICO DE GESTIÓN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Roberto Sáenz Ozaet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Walter Villafue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NORT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Graciela Moncayo Núñ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Oswaldo Uyaguari Quez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SUR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66680"/>
            <a:ext cx="1295280" cy="3812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RECTO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580000" y="907920"/>
            <a:ext cx="1513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loza</cp:lastModifiedBy>
  <dcterms:modified xsi:type="dcterms:W3CDTF">2006-11-30T19:53:38Z</dcterms:modified>
  <cp:revision>24</cp:revision>
  <dc:subject/>
  <dc:title>Presentación de PowerPoint</dc:title>
</cp:coreProperties>
</file>