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2E20-113F-4085-A0BC-1A7F8891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4251-6520-47F1-82FF-2377DD5D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90DB-0DA2-4354-A77C-63C19FFC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1743-9746-4538-8E50-4AB67733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0231-27F4-4E79-A15C-10C2500E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B16E-E74C-44EE-9733-2FE8A2E4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B7BF-43B7-48E6-81F5-C30EFFD6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CD79-6E06-4681-ACE4-8EE9B085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F7BE-8CA5-4AB9-94EC-3747B900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1AD7-175D-47A5-B904-E4DAA862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AA23-8E71-475E-B1DC-2B33E131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458B-5301-476F-9726-961D56B2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37EE-21B1-4B19-956E-D08350DA1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64000" y="1268280"/>
            <a:ext cx="327348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4724280"/>
            <a:ext cx="3276720" cy="165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64000" y="1196640"/>
            <a:ext cx="3276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ESTADÍSTICAS ESTRUCTURALES DE EMPRESAS Y ESTABLECIMIENTOS ECONÓMIC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Arturo De La Cadena Bá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Pablo Marcelo Loza Cevall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ANÁLISIS DE SISTEM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Blanca Almach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 Black"/>
              </a:rPr>
              <a:t>OPERACION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DIRECCIONES REG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EDI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COMUNICACIÓN SOCIAL Y RELACIONES PÚBL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TALLERES GRÁFICOS DEL INE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692280"/>
            <a:ext cx="4191120" cy="571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BYRON VILLACIS CRU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ROSSMAN CAMACHO CARR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SUBDIRECTOR GENE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CÉSAR ZANAFRIA NIQUINGA   </a:t>
            </a:r>
            <a:r>
              <a:rPr b="0" lang="en-US" sz="700" spc="-1" strike="noStrike">
                <a:solidFill>
                  <a:srgbClr val="000000"/>
                </a:solidFill>
                <a:latin typeface="Arial Black"/>
              </a:rPr>
              <a:t>                         </a:t>
            </a: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CLAUDIO GALLARDO LE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DIRECTOR  DE ASESORÍA JURÍDICA             DIRECTOR DE PLAN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MARCO VILLAVICENCIO ORTIZ                          RUTH PUYOL CORDER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AUDITOR INTERNO                                      DIRECTORA DE RECURS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                </a:t>
            </a: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HUMANOS Y SERVICIOS </a:t>
            </a: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                           ADMINISTRATIV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HUGO FREIRE ALMEIDA                                      GALO ARIAS VELO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DIRECTOR DE RECURSOS FINANCIEROS      DIRECTOR DE PRODUCCIÓN DE          </a:t>
            </a: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              ESTADÍSTICAS ECONÓM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JULIO ORTEGA ANDRADE                                  CARLOS OBANDO REVEL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DIRECTOR DE PRODUCCIÓN DE                         DIRECTOR DE DESARROLL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ESTADÍSTICAS SOCIODEMOGRÁFICAS                TECNOLÓGICO ESTADÍSTI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Black"/>
              </a:rPr>
              <a:t>PROCESOS A NIVEL REGIO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DAVID MANOSALVAS VINUEZ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DIRECTOR REGIONAL DEL NOR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JOSÉ CASTRO CARRASC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DIRECTORA REGIONAL DEL LITO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RODRIGO SEGARRA AGUIR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DIRECTOR REGIONAL DEL SUR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JORGE GARCÍA GUERR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Black"/>
              </a:rPr>
              <a:t>DIRECTOR REGIONAL DEL CENT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1066680"/>
            <a:ext cx="1295280" cy="3812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IREC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86400" y="1268280"/>
            <a:ext cx="3048120" cy="2890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765000"/>
            <a:ext cx="3200400" cy="36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765000"/>
            <a:ext cx="237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AÑO 200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5508720" y="5157720"/>
            <a:ext cx="280836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9-01-08T21:14:36Z</dcterms:modified>
  <cp:revision>32</cp:revision>
  <dc:subject/>
  <dc:title>Presentación de PowerPoint</dc:title>
</cp:coreProperties>
</file>