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FBF-F5B8-4037-B70E-BAEDF72F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179-6384-4DDE-9317-B358B819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1F2-DD57-47EC-8996-9B5B1506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C8B-DF43-4CDD-A0C5-0A3BFE0C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53C-F057-4214-93D1-4CA06E9B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86F-347B-4904-AF10-32A72000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CCE-DEFB-4160-9217-3C179521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44A-6864-4764-913B-0711F3D5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F82-6674-4B4E-90AC-44E1C4C5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F3C-8C09-4E23-B004-CE2F3145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889-7C08-4181-8A8A-A9FC557A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BBD-97B8-4047-9A36-025E98CE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6A09-FFEA-4834-9100-7E1A596B9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64000" y="126828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4724280"/>
            <a:ext cx="3276720" cy="165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64000" y="1196640"/>
            <a:ext cx="3276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ESTADÍSTICAS ESTRUCTURALES DE EMPRESAS Y ESTABLECIMIENTOS ECONÓM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Arturo De La Cadena Bá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Pablo Marcelo Loza Cevall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Fausto Fl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COMUNICACIÓN SOCIAL Y RELACIONES PÚBL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TALLERES GRÁFICOS DEL INE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69228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BYRON ANTONIO VILLACIS CRU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JORGE EDUARDO GARCÍA GUERR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SUBDIREC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CÉSAR OSWALDO ZANAFRIA NIQUINGA   </a:t>
            </a:r>
            <a:r>
              <a:rPr b="0" lang="en-US" sz="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  DE ASESORÍA JURÍD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RAFAEL DAVID MAYA ALMEI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 DE PLANIFICACIÓN EN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AUDITOR INTER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CÉSAR ROBERTO MORALES PÁ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SECRETARIO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RUTH ELENA PUYOL CORDER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A DE RECURSOS HUMANOS Y SERVICIOS ADMINISTRATIV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ROSSMAN RAMIRO CAMACHO CARR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 DE RECURSOS FINANCIE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EDWIN VLADIMIR BUENAÑO HERMO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 DE PRODUCCIÓN DE ESTADÍSTICAS ECONÓ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JOSÉ ALFREDO INTRIAGO CONFOR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 DE PRODUCCIÓN DE ESTADÍSTICAS ECONÓ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WILIAM RAFAEL HUERTAS QUISH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 DE DESARROLLO TECNOLÓGICO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PROCESOS A NIVEL REG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JENNIFER NATHALY MARCILLO CHAS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A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JESSICA ALEXANDRA MENÉNDEZ CAMP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A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MIGUEL RODRIGO SEGARRA AGUIR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 REGIONAL DEL SUR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GRACIELA MONCAY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A REGIONAL DEL CENTRO EN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066680"/>
            <a:ext cx="1295280" cy="3812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86400" y="1268280"/>
            <a:ext cx="3048120" cy="289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765000"/>
            <a:ext cx="3200400" cy="36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765000"/>
            <a:ext cx="23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5508720" y="5157720"/>
            <a:ext cx="28083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0-10-06T16:22:51Z</dcterms:modified>
  <cp:revision>35</cp:revision>
  <dc:subject/>
  <dc:title>Presentación de PowerPoint</dc:title>
</cp:coreProperties>
</file>