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937-7B97-4FE7-BB4A-A21F9CDE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F1E-8428-4B11-9020-13A6C9ED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258-896F-4ADF-A4F1-E859BE37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1C2-82F4-49FF-8272-16C0549D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1EB-6BED-4BBA-A08F-3BA62F2C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F84-E576-421B-B354-E532E852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FF2-020A-4A6E-9BF9-FEBFFF16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6F3-5D7B-43D9-AE5A-25B1B3E7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044-1220-45B4-8262-141FB67D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342-D836-44CD-A8C4-C39EFDA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466-BB15-4B63-9115-FB19C25F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E04-BE88-4BEA-9E7C-D3D9B47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CB7-764E-48A1-9B2D-F1BDC411B21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8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Unidad de Estadísticas Económicas y Estructu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Francisco Camacho Dil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Wilson Albuja Ra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Dirección de Tecnologías de la Información y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María Casares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1"/>
          <p:cNvSpPr/>
          <p:nvPr/>
        </p:nvSpPr>
        <p:spPr>
          <a:xfrm>
            <a:off x="826920" y="692280"/>
            <a:ext cx="434520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sé Rosero Monc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Césa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 Zanafria Niquinga 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 Black"/>
              </a:rPr>
              <a:t>Adriano Molina Guzm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ASESORÍA JURÍDICA    DIRECTOR DE PLANIFICACIÓN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Sandoval Atapuma               Brenda Sempértegui Vane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ECRETARIO GENERAL Y            DIRECTORA DE COMUN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ESTOR DOCUMENTAL (E)                              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Katia Enríquez Mora                  Rossman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ADMINISTRACIÓN       DIRECTOR ADMINISTRATIVO            Y DEL TALENTO HUMANO (E)                    FINANCIERO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agaly Paredes Baño                        Jorge Luis Gómez Pala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PRODUCCIÓN DE       DIRECTOR DE PRODUCCI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STADÍSTICAS ECONÓMICAS    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eoconda Ocampo Gavilánez                    Jorge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TECNOLOGÍAS                  COORDINAD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E LA INFORMACIÓN Y COMUNICACIÓN                     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alo López Lindao                             Rosa Valle Piñ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ESTUDIOS                  DIRECTORA DE INFORM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NALÍTICOS ESTADÍSTICOS  (E)        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hristian Garcés Mayorga                   María Murgueitio Tam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METODOLOGÍAS          DIRECTORA DE ESTADÍS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Y NORMATIVA DEL SEN   (E)                        AMBIENTALES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hyrley Padilla Proa                    Jéssica Menéndez Cam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REGIONAL DEL NORTE  DIRECTORA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uanita Gamboa Vargas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Oswaldo Uyaguari Quez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REGIONAL DEL CENTRO    DIRECTOR REGIONAL DEL SUR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0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3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2"/>
          <p:cNvSpPr/>
          <p:nvPr/>
        </p:nvSpPr>
        <p:spPr>
          <a:xfrm>
            <a:off x="5580000" y="10666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AÑ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5435640" y="5734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EDI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COMUNICA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IMPRES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IMPRENTA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DEL INE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8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655640" cy="792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5"/>
          <p:cNvSpPr/>
          <p:nvPr/>
        </p:nvSpPr>
        <p:spPr>
          <a:xfrm>
            <a:off x="3059280" y="189000"/>
            <a:ext cx="18288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11 CuadroTexto"/>
          <p:cNvSpPr/>
          <p:nvPr/>
        </p:nvSpPr>
        <p:spPr>
          <a:xfrm>
            <a:off x="1908000" y="9079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walbuja</cp:lastModifiedBy>
  <cp:lastPrinted>2001-01-30T18:59:46Z</cp:lastPrinted>
  <dcterms:modified xsi:type="dcterms:W3CDTF">2013-01-21T20:43:26Z</dcterms:modified>
  <cp:revision>145</cp:revision>
  <dc:subject/>
  <dc:title>Sin título de diapositiva</dc:title>
</cp:coreProperties>
</file>