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036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6479-C9EC-4450-83C6-54454F9BB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BBB0-03F4-41E8-AD7A-DD7B6FF9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7389-1D91-48CC-B87B-2347C5741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32F1-F868-49FF-A8A1-3C75326D6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AC4B-659F-4210-A365-BABA0537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AFD2-6FCA-4002-8B04-DD7542EE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5D7C-864B-4F5C-8A1F-57A30D92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767E-C3A0-4620-B247-F388E79B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76ED-48BC-40AD-B0C5-62344E2D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5058-8F23-43D7-8E4C-073A02DA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FD2A-A522-410D-B9E3-91D0923C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899A-BE96-41A3-9845-0E054286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F688-556D-455A-B491-A075BFF65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410080" y="2895480"/>
            <a:ext cx="3276720" cy="31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PERSONAL TÉCNICO RESPONS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 Black"/>
              </a:rPr>
              <a:t>ADMINISTRACIÓ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Black"/>
              </a:rPr>
              <a:t>ESTADÍSTICAS ESTRUCTURALES DE EMPRESAS Y ESTABLECIMIENTOS ECONÓMIC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Arturo de la Cadena B.      Pablo Loza Cevallos     </a:t>
            </a: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Black"/>
              </a:rPr>
              <a:t>ANÁLISIS DE SISTEM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Juan Carlos Delg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OPERACION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Direcciones Regio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ED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COMUNICACIÓN SOCIAL Y RELACIONES PÚBLIC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IMPRE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Talleres Gráfi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85800"/>
            <a:ext cx="243828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85800"/>
            <a:ext cx="4191120" cy="5715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IREC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BYRON ANTONIO VILLACÍS CRU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IRECT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JORGE EDUARDO GARCÍA GUERRE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SUBDIRECTOR GENE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CÉSAR OSWALDO ZANAFRIA NIQUING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DE ASESORÍA JURÍDICA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RAFAEL DAVID MAYA ALMEID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DE PLANIFICACIÓN ENC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MARCO VILLAVICENCIO ORTI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AUDITOR INTERN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CÉSAR ROBERTO MORALES PÁE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SECRETARIO GENE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RUTH ELENA PUYOL CORDE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DE RECURSOS HUMANOS Y SERVICIOS ADMINISTRATIV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ROSSMAN RAMIRO CAMACHO CARR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DE RECURSOS FINANCIER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EDWIN VLADIMIR BUENAÑO HERMOS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DE PRODUCCIÓN DE ESTADÍSTICAS ECONÓMIC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JOSÉ ALFREDO INTRIAGO CONFORM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DE PRODUCCIÓN DE ESTADÍSTICAS SOCIODEMOGRÁFIC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WILIAM RAFAEL HUERTAS QUISHP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DE DESARRÓLLO  TECNOLÓGICO ESTADÍSTIC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PROCESOS A NIVEL REGION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JENNIFER NATHALY MARCILLO CHAS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REGIONAL DEL NOR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JUANA NOEMÍ GAMBOA VARG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REGIONAL DEL CENTRO ENC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MIGUEL RODRIGO SEGARRA AGUIR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 REGIONAL DEL SUR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JESSICA ALEXANDRA MENÉNDEZ CAMP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IRECTORA REGIONAL DEL LITO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22096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AÑO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838080"/>
            <a:ext cx="18288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943600" y="1143000"/>
            <a:ext cx="218124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8T14:23:58Z</dcterms:created>
  <dc:creator>DESARROLLO DE SISTEMAS</dc:creator>
  <dc:description/>
  <dc:language>en-US</dc:language>
  <cp:lastModifiedBy> </cp:lastModifiedBy>
  <cp:lastPrinted>2000-08-22T04:10:47Z</cp:lastPrinted>
  <dcterms:modified xsi:type="dcterms:W3CDTF">2011-01-05T14:45:18Z</dcterms:modified>
  <cp:revision>53</cp:revision>
  <dc:subject/>
  <dc:title>Sin título de diapositiva</dc:title>
</cp:coreProperties>
</file>