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63D-0C6B-42F6-9F9A-F4116665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F94-97EB-42AA-8988-587BCCB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39D-F77D-419A-A691-9D16EBCE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722-53A1-4459-A085-F5435A93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537-3C2C-4255-A731-895B8A6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49E-B5BB-463C-81E2-68AD6EB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C40-9733-4CDD-BEBB-5DB2DE2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4F2-AB06-4549-BBA6-9A365316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158-C0A4-407E-8D12-A5C6198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746-8E13-4C35-BEB3-821DCB2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535-5853-46F8-A1B7-9A2038A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E57-0AB0-440B-A2FA-4B5EA42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AB30-0C18-4E7F-8B1A-E11D7B38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66688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ónica Sánch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usana Mari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raciela Tob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ómulo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arlos Cortez Cas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  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I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abián Santacruz Guz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AF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ictor Manuel Esco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133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5943600" y="685080"/>
          <a:ext cx="19810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5943600" y="685080"/>
                    <a:ext cx="1981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jcevallos</cp:lastModifiedBy>
  <cp:lastPrinted>2000-08-22T04:10:47Z</cp:lastPrinted>
  <dcterms:modified xsi:type="dcterms:W3CDTF">2002-08-29T16:33:00Z</dcterms:modified>
  <cp:revision>29</cp:revision>
  <dc:subject/>
  <dc:title>Sin título de diapositiva</dc:title>
</cp:coreProperties>
</file>