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816-7B8D-4491-978C-3B4AD9E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E0A-A0CA-4418-A215-F256B329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F6B-82B9-43AE-9420-8FECCD34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80A-3B59-4FBA-91E2-D9C33B05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309-56EC-4A1F-A31B-C2E236E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7F6-3E42-4E98-BE16-4EBABA6C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3B4-D526-4376-AEDA-C48AC42C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CF7-EAEB-4DD1-81AA-E3578EA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DFF-6DE5-4C13-B2AA-4F24361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3B1-E825-40BF-86D9-65119E6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695-A031-414D-A50A-63E3657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AE8-0543-43A3-87B1-3CBDB39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E70-9FE4-4D60-81DF-3DCCBFB83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 rot="10800000">
          <a:off x="762120" y="380520"/>
          <a:ext cx="23619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762120" y="380520"/>
                    <a:ext cx="2361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jcevallos</cp:lastModifiedBy>
  <cp:lastPrinted>2000-08-22T21:44:32Z</cp:lastPrinted>
  <dcterms:modified xsi:type="dcterms:W3CDTF">2002-08-21T17:16:38Z</dcterms:modified>
  <cp:revision>12</cp:revision>
  <dc:subject/>
  <dc:title>Sin título de diapositiva</dc:title>
</cp:coreProperties>
</file>