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2A5-9321-4915-B646-46DD714A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ECB-FE6E-4C05-8208-0EA1FF93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64D-179C-4474-B16E-C59D8452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832-FFA2-465E-B3FC-72DA4CC2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2C8-8E63-4361-93B0-DB8ED8DA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AE3-74D3-4A0B-B676-7A550C4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330-5C71-48F3-A1ED-603F8BA6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F53-665E-4C87-8B62-615D0CA6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F75-A531-4DCC-96BF-D27ECD2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919-D6B6-44CD-BD59-E897A85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8B7-3DFE-4650-923B-2151B71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A8A-3354-4437-8111-9C85BD1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C657-DE9A-4D20-9385-3FEBAA57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1752480"/>
            <a:ext cx="916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NCUESTA ANUAL DE E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MISOS DE CONSTRUCC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63880" y="2895480"/>
            <a:ext cx="5943600" cy="228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2920" y="5638680"/>
            <a:ext cx="90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O - 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 rot="10800000">
          <a:off x="762120" y="380520"/>
          <a:ext cx="236196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762120" y="380520"/>
                    <a:ext cx="23619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6T20:05:34Z</dcterms:created>
  <dc:creator>EXPANSION Y MANTENIMIENTO</dc:creator>
  <dc:description/>
  <dc:language>en-US</dc:language>
  <cp:lastModifiedBy>jcevallos</cp:lastModifiedBy>
  <cp:lastPrinted>2000-08-22T21:44:32Z</cp:lastPrinted>
  <dcterms:modified xsi:type="dcterms:W3CDTF">2004-02-05T14:23:51Z</dcterms:modified>
  <cp:revision>13</cp:revision>
  <dc:subject/>
  <dc:title>Sin título de diapositiva</dc:title>
</cp:coreProperties>
</file>