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E05-919C-4386-99B5-0CBA978A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DCF-8EA8-4460-B3C6-5C514F5B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274-B49E-4F53-B779-D795F44A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3EA-EB3E-45BB-B3D6-C66C25ED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75F-2EA0-4E1A-8879-B1A2E1B7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F46-9E5D-4D0E-96DA-693AF048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5D5-71EE-4CBD-A80B-EDC09306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1EF6-E5EF-44F2-8F35-4E7D6892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3AB5-721B-47F0-92E4-79AEA5E1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02F-4C6E-4918-9A7B-876D1545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1DA-FD80-4F44-9036-504390F8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2329-FCD5-47B7-9636-0AB6B22D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698A-E823-4659-8D12-779D56338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410080" y="2666880"/>
            <a:ext cx="3276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PERSONAL TE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O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DEPARTAMENTO DE ESTADISTIC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Jaime Cevallos 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ANA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Juan Carlos Delg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Luis Verg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Susana Mariñ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Graciela Tob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Mario Merchá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TALLERES GRAFICOS DEL I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Víctor Manuel Esco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DIRECTOR GENERAL            SUBDIRECTOR GENERAL TE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orge Magaldi Sánchez                                      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ASUNTOS JURIDICO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lavia Racines Carr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ESARROLLO ESTADI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Y PLANIFICACIO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ilton Naranj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IFUSION ESTADI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lexis Pérez Nie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RECURSOS HUMAN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ERVICIOS ADMINISTRATIV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ésar Fier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FINANCIERO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Orlando Narvá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IS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CONOMICA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ESTADIS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OCIO-DEMOGRAFICA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Pilar Ortiz Mejí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INFORMAT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arlos Calispa Pedra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dwin Fuer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Fernando Sandov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SUR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Oswaldo Uyaguar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LITORAL 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berto Sáenz Ozaet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2133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ÑO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 rot="10800000">
          <a:off x="5943600" y="685080"/>
          <a:ext cx="198108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5943600" y="685080"/>
                    <a:ext cx="19810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jcevallos</cp:lastModifiedBy>
  <cp:lastPrinted>2000-08-22T04:10:47Z</cp:lastPrinted>
  <dcterms:modified xsi:type="dcterms:W3CDTF">2004-02-05T14:31:19Z</dcterms:modified>
  <cp:revision>31</cp:revision>
  <dc:subject/>
  <dc:title>Sin título de diapositiva</dc:title>
</cp:coreProperties>
</file>