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409-B622-4014-9927-DFA7AF029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2CC-88C2-4678-B6AC-F5DD13F2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A40-1BB1-4C0C-8EAA-AE2FF076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66B-23B1-4D09-A9B4-5451942D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8B14-511F-4BE7-8C77-35FB0368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ACC-1F00-4799-94C8-3CCE9CAB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3C06-F37F-4529-832D-B21751F9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1A7-A710-494C-B7BE-9161E3B4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651-8D0D-4CC1-A6AF-162335CB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21B-CBD1-4D20-B27A-4D6BCE37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1284-E16C-4FC8-A5B5-435D4878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3FE-414D-46D5-A85D-CC76AE6B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0241-C943-449F-A1DD-18ECAE439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410080" y="3197160"/>
            <a:ext cx="3276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PERSONAL TECNICO RESPONS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O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DEPARTAMENTO DE ESTADISTICA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Jaime Cevallos 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Black"/>
              </a:rPr>
              <a:t>ANA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Juan Carlos Delga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OPERACIONALIZ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Direcciones Region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</a:rPr>
              <a:t>Talleres Gráf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GESTIÓN ESTRATÉGICA DE LA GENE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E INFORMACIÓN ESTADÍST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Luis Alfredo Carrillo jaramill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COORDINACIÓN Y CONTROL DE L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PROCESOS INSTITUCION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orge Magaldi Sánche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SESORÍA JURÍD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uro Egas Guillé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SEGURAMIENTO DE LA CALIDAD DE GESTIÓ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iryam Peñafiel Ullaur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ESTIÓN DE DESARROLLO ORGANIZACIONAL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avid Guerrero Lo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ESTIÓN DE RECURSOS FINANCIEROS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Orlando Narváez Enrí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INVESTIGACIÓN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lvaro Meri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ESARROLLO TECNOLÓGICO ESTADÍST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arlos Calispa Pedra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NÁLISIS ESTADÍST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ilton Naranjo Rivadenei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PROCESOS DESCONCENTRAD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ixto Hipólito Baca Pin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" spc="-1" strike="noStrike">
                <a:solidFill>
                  <a:srgbClr val="000000"/>
                </a:solidFill>
                <a:latin typeface="Arial Black"/>
              </a:rPr>
              <a:t>Fernando Sandov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SUR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na Gabriela Jimén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LITO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afael Valdez Reque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15000" y="23446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ÑO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8T14:23:58Z</dcterms:created>
  <dc:creator>DESARROLLO DE SISTEMAS</dc:creator>
  <dc:description/>
  <dc:language>en-US</dc:language>
  <cp:lastModifiedBy>jcevallos</cp:lastModifiedBy>
  <cp:lastPrinted>2000-08-22T04:10:47Z</cp:lastPrinted>
  <dcterms:modified xsi:type="dcterms:W3CDTF">2004-11-24T17:14:11Z</dcterms:modified>
  <cp:revision>34</cp:revision>
  <dc:subject/>
  <dc:title>Sin título de diapositiva</dc:title>
</cp:coreProperties>
</file>