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1CE-5365-4EBE-A698-6ADEB8E4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813-EF0C-4E43-B597-EF7E8DB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317-E1A1-4BC9-8B48-A649F389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CDE-2A7C-4D39-8F3D-E67F272F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66E-FED2-4B9A-BC73-BA70FB77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BC6-2A13-4AA0-AADF-67FB4A6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CE5-FE45-4412-A5CF-153EC59A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398-22B8-4581-A470-40AEF12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CC2-BF36-4627-B78E-D57C2687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480-19D4-4CBC-956C-5B951EC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492-1219-48EC-A212-3E69023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2C7-845E-4432-87E5-491CF96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64A2-8ACD-4927-B11A-DAB4B674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3197160"/>
            <a:ext cx="3276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DEPARTAMENTO DE ESTADIST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     Pablo Marcelo Loza C.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co Quinteros Vela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rge Magaldi Sánch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TECNICO DE GESTION ESTRATEGICA INSTITU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lton Altuna Hidalg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TECNICO DE ASEGURAMIENTO DE LA CALIDAD DE GESTI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blo Jácome Jarami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JURID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co  Vinici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DI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uis Guadalupe Casti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ORDINADOR DE COMUNICACIÓN SOC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DE LA PRODUCCIÓN ESTADÍS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ía Soledad Carvaj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DE GESTIÓN DE ANÁLISIS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DE DESARROLLO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tricio López Toromore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DE RECURSOS HUMANOS Y SERV.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iana Vergara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TECNICA DE GESTIÓN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drigo Martínez Peñaherr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ncy Flores Hinoj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guel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SUR, Sub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berto Sáenz Ozaet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344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763560"/>
            <a:ext cx="2016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loza</cp:lastModifiedBy>
  <cp:lastPrinted>2000-08-22T04:10:47Z</cp:lastPrinted>
  <dcterms:modified xsi:type="dcterms:W3CDTF">2006-08-04T15:14:56Z</dcterms:modified>
  <cp:revision>36</cp:revision>
  <dc:subject/>
  <dc:title>Sin título de diapositiva</dc:title>
</cp:coreProperties>
</file>