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78B-9DE5-4DA4-8C78-423DEF48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FE1-ED23-49D1-91DA-A552CC0F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35F-0DE6-4B69-8773-6B1667C2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8A1-9FB5-41C9-B40E-0BA7ABE4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DAA-A9AC-4783-8087-277BEE3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C59-DA48-459B-ACD1-9F4D353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A9A-78ED-4E0C-843C-D1D3E8C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857-6565-4CD3-85D7-01F2782C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35D-5513-471F-B567-6BB4EEBF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85D-BC7A-4D60-95C4-9A80240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EB8-7C8D-49EF-96CA-EC35275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7CC-0E51-4A04-8940-8E2AEE6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DC4-4D57-4F2C-9632-ABFD0847D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4880" y="404640"/>
            <a:ext cx="237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mloza</cp:lastModifiedBy>
  <cp:lastPrinted>2000-08-22T21:44:32Z</cp:lastPrinted>
  <dcterms:modified xsi:type="dcterms:W3CDTF">2006-05-30T14:48:32Z</dcterms:modified>
  <cp:revision>17</cp:revision>
  <dc:subject/>
  <dc:title>Sin título de diapositiva</dc:title>
</cp:coreProperties>
</file>