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A07-E8F9-417A-9884-25ED1C63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898-5BF9-4851-8666-0A89B221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410-7B60-4D51-9856-E57823A5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BDD-B39C-42B3-BBA7-6206FAE7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483-C76F-4313-8132-7D16D53E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F29-86E6-43C3-BBE3-39BAF954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659-8D83-4256-8E3B-3016D6EC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7C5-546E-409E-87B8-2239A9CB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1B4-0649-4EA3-9610-014EC88C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2B4-A5ED-4FE5-900D-75E6E284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9D1-FDF9-4403-87E6-D3305F7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4A2-3843-4373-8B94-370B312B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0A7C-39D3-4F3F-8F23-8CFB82541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3197160"/>
            <a:ext cx="3276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SISTEMA DE ESTADISTICAS ECONOMIC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Arturo de la Cadena      Pablo Marcelo Loza C.     </a:t>
            </a: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OPERACIONALIZ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co Quinteros Vela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 GENERAL, SUBROG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orge Magaldi Sánch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TECNICO DE GESTION ESTRATEGICA INSTITUC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lton Altuna Hidalg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TECNICO DE ASEGURAMIENTO DE LA CALIDAD DE GESTIO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blo Jácome Jaramil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JURID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co  Vinici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UDI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uis Guadalupe Castil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ORDINADOR DE COMUNICACIÓN SOC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GESTIÓN DE LA PRODUCCIÓN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ía Soledad Carvaj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DE GESTIÓN DE ANÁLISIS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rlos Obando Rev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GESTIÓN DE DESARROLLO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tricio López Toromore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GESTIÓN DE RECURSOS HUMANOS Y SERV.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iana Vergara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TECNICA DE GESTIÓN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drigo Martínez Peñaherr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ancy Flores Hinojo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guel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SUR, Sub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berto Sáenz Ozaet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344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ÑO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2000" y="763560"/>
            <a:ext cx="2016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loza</cp:lastModifiedBy>
  <cp:lastPrinted>2000-08-22T04:10:47Z</cp:lastPrinted>
  <dcterms:modified xsi:type="dcterms:W3CDTF">2006-07-13T13:36:57Z</dcterms:modified>
  <cp:revision>36</cp:revision>
  <dc:subject/>
  <dc:title>Sin título de diapositiva</dc:title>
</cp:coreProperties>
</file>