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902825" cy="6772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05F-AA0A-4142-8DDC-EAE5DB28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E66-149E-4115-B62F-9F338321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9BE-C76F-46FF-9C3C-7E5D98C4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D52-B28C-4AE8-AC7B-B64B4E4B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F05-4D2A-4B43-9B66-F47FE846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68C-1726-4D20-AE33-F11CD012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979-525B-44FB-9F48-DA87BE89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D9A-75F9-4650-93F1-270EDF87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D1A-0480-4A0A-86D2-744329A5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A0C-5305-4065-8998-CBD37536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3CD-000A-4FFC-BD91-8A4D1190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740-81C4-480A-9E19-D6DEEE4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E086-B3FC-4288-9501-6570D5038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2920" y="1752480"/>
            <a:ext cx="916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CUESTA ANUAL DE E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MISOS DE CONSTRUCC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63880" y="2895480"/>
            <a:ext cx="5943600" cy="228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2920" y="5638680"/>
            <a:ext cx="90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O - 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4880" y="404640"/>
            <a:ext cx="2376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6T20:05:34Z</dcterms:created>
  <dc:creator>EXPANSION Y MANTENIMIENTO</dc:creator>
  <dc:description/>
  <dc:language>en-US</dc:language>
  <cp:lastModifiedBy>mloza</cp:lastModifiedBy>
  <cp:lastPrinted>2000-08-22T21:44:32Z</cp:lastPrinted>
  <dcterms:modified xsi:type="dcterms:W3CDTF">2006-05-30T14:48:32Z</dcterms:modified>
  <cp:revision>17</cp:revision>
  <dc:subject/>
  <dc:title>Sin título de diapositiva</dc:title>
</cp:coreProperties>
</file>