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902825" cy="6772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D7FA-D5B0-4EF7-9D9C-3C46C3E9B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4F8F-49FE-4DA0-8CD0-600F0E6B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4445-A859-4664-8C6A-69DF8DC5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2445-4A80-4C7E-9E44-2EA93D85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F058-01F2-4090-A0D5-AC38638F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05B5-A481-4DDF-9CC7-18D42C22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4945-43D7-49FD-B41E-E1182F2C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6E1E-4F8F-4B3C-BD05-E76F7BA9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944E-F5F7-4BEC-9751-305359EE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13DB-AD54-4AAC-8EB4-7BD129B3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BD7D-7243-4571-AE02-DDCDFC44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2658-FEA0-4B7B-81CB-50C882E6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6B21-9E8A-4F58-A2A8-18B1CE958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2920" y="1752480"/>
            <a:ext cx="916272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NCUESTA ANUAL DE EDIFIC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ERMISOS DE CONSTRUCC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63880" y="2895480"/>
            <a:ext cx="5943600" cy="2281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12920" y="5638680"/>
            <a:ext cx="908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O - 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4880" y="404640"/>
            <a:ext cx="237636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6T20:05:34Z</dcterms:created>
  <dc:creator>EXPANSION Y MANTENIMIENTO</dc:creator>
  <dc:description/>
  <dc:language>en-US</dc:language>
  <cp:lastModifiedBy>mloza</cp:lastModifiedBy>
  <cp:lastPrinted>2000-08-22T21:44:32Z</cp:lastPrinted>
  <dcterms:modified xsi:type="dcterms:W3CDTF">2007-06-13T19:24:05Z</dcterms:modified>
  <cp:revision>18</cp:revision>
  <dc:subject/>
  <dc:title>Sin título de diapositiva</dc:title>
</cp:coreProperties>
</file>