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99F-EAE1-40A0-A043-3C3D505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B5F-78CC-41DB-B96E-37E1D0D8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834-6F35-4083-AF13-FE9896ED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489-642B-4977-AC33-B25A8B61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FE9-5EF8-4BDA-A208-A788EBF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D3C-DDB6-409A-9169-549193D3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997-4F28-49DC-A1B5-26673392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C05-C278-4E60-9E1D-755A7D6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086-8243-4587-8B6A-EC0C2A5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0C6-F9EE-4EBE-94C9-9FF439E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D22-F3D9-48D4-A36B-4E74687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B2A-7FB5-447D-BA6D-62E9B01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963-E760-4AD2-99CD-111E6168A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319716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B.      Pablo Marcelo Loza C.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AVID VERA ALCI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GESTIÓN ESTRATÉ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ÉSAR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ASESORIA JURID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LAUDIO GALLARDO LE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DMUNDO SALAZAR ESPINO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UTH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ISTHIAN CRUZ RODRÍG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RECURSÓ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LTON PAUCAR BAR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DESARRÓLLO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SÉ INTRIAGO CONFOR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ENDA REYES BENAVID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344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763560"/>
            <a:ext cx="2016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loza</cp:lastModifiedBy>
  <cp:lastPrinted>2000-08-22T04:10:47Z</cp:lastPrinted>
  <dcterms:modified xsi:type="dcterms:W3CDTF">2007-07-23T20:52:44Z</dcterms:modified>
  <cp:revision>44</cp:revision>
  <dc:subject/>
  <dc:title>Sin título de diapositiva</dc:title>
</cp:coreProperties>
</file>