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FA0-6D68-4377-A120-0F23C732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E6C-F34B-4CE7-999E-9703C234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267D-AC40-4202-B554-9E283EBF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BE1-78F9-4C64-943A-508CAE36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580-5F21-414B-B1E0-91F7F5DB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A53-6FF9-471B-B4DF-90B4C0D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B9F-E4CE-43EB-9FF4-ECF430E5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240-5373-4114-9C27-959556A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456-7CD2-4AA8-936A-B5D54A74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69B-2B44-4786-BBC1-03D96165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8A-87B8-41AE-B656-5173384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010-A0E4-4048-84D2-67072AD4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4F6-10AD-42E0-962F-6B91D64F1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2895480"/>
            <a:ext cx="327672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rturo de la Cadena B.      Pablo Loza Cevallos     </a:t>
            </a: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COMUNICACIÓN SOCIAL Y RELACIONES PÚBL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YRON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SSMAN CAMACHO CARR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DIRECTOR GENE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ÉSAR ZANAFRIA NIQUING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ASESORÍA JURÍDIC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LAUDIO GALLARDO LE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LAN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RCO VILLAVICENCIO ORTI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DITOR INTERN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UTH PUYOL CORD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A DE RECURSOS HUMANOS Y SERVICIOS ADMINISTRATIV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UGO FREIRE ALMEID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RECURSOS FINANCIER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ECONÓM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ULIO ORTEGA AND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PRODUCCIÓN DE ESTADÍSTICAS SOCIODEMOGRÁFIC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RLOS OBANDO REVEL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DE DESARRÓLLO  TECNOLÓGICO ESTADÍSTI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ROCESOS A NIVEL REG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AVID MANOSALVAS VINUE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NOR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RGE GARCÍA GUERRE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CENTR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ODRIGO SEGARRA AGUIR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SUR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JOSÉ CASTRO CARRAS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RECTOR REGIONAL DEL LITOR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209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812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loza</cp:lastModifiedBy>
  <cp:lastPrinted>2000-08-22T04:10:47Z</cp:lastPrinted>
  <dcterms:modified xsi:type="dcterms:W3CDTF">2008-08-06T16:16:45Z</dcterms:modified>
  <cp:revision>46</cp:revision>
  <dc:subject/>
  <dc:title>Sin título de diapositiva</dc:title>
</cp:coreProperties>
</file>