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0C3-CD33-4F30-AAB3-63182F6A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AD4-CD26-44CB-B424-EB96C4BD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DEC-DE05-4669-B769-8B4D7A19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B89-B032-4569-A986-11544CE0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AFF-0CA4-477A-A5AD-B676C25D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69B-9265-4882-9A88-585EF5A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D50-59B9-41CB-86FC-AD2940BD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390-31DB-4854-9646-E3A8479C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F23-BB1E-4E85-A49C-821D19B5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119-CFC4-42F2-8D53-2B2F00F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FC9-1165-4A2C-BE46-59FB8643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09C-5836-4C56-837C-CA2A66C8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CF0A-074F-4389-BBC2-2A9334521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895480"/>
            <a:ext cx="327672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rturo de la Cadena B.      Pablo Loza Cevallos     </a:t>
            </a: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B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ASESORÍA JURÍDIC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FAEL DAVID MAYA ALME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LANIFICACIÓN E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CRETARIO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DE RECURSOS HUMANOS Y SERVICIOS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DWIN VLADIMIR BUENAÑO HERMO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RODUCCIÓN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OSÉ ALFREDO INTRIAGO CONFOR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RODUCCIÓN DE 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WILIAM RAFAEL HUERTAS QUISH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DESARRÓLLO 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UANA GAMBO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REGIONAL DEL CENTR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GUEL RODRIGO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SUR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ÑO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 </cp:lastModifiedBy>
  <cp:lastPrinted>2000-08-22T04:10:47Z</cp:lastPrinted>
  <dcterms:modified xsi:type="dcterms:W3CDTF">2011-02-18T19:49:34Z</dcterms:modified>
  <cp:revision>53</cp:revision>
  <dc:subject/>
  <dc:title>Sin título de diapositiva</dc:title>
</cp:coreProperties>
</file>