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756-3D7F-44F0-BBF1-3A9AA82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AFD-28D6-4C4B-A8BD-CD17945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BA2-066A-4A36-B92B-1FE3C306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16D-E2E4-44BB-A1A9-3E748800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DB2-0E4B-410C-9362-0553855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3BC-26F1-475A-A9F4-11080F4C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C81-7DBD-4C99-9978-0B98EE1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765-F4B1-41CC-86E8-A634A6A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1DA-FA92-4BA0-9756-A7B51AF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F90-29DF-4367-ADF5-BCA7189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49D-B217-44B2-A6DD-66F9CCB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1B7-C3F2-4230-99F0-40B85B0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265-1B88-4121-8B92-822D0CE62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ÉSAR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ULIO ORTEGA AND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UTH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CONDA OCAMPO AGUI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DESARRÓLLO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YAJAIRA VAS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DUARDO MONTEROS CASTELLAN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SSICA MA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 </cp:lastModifiedBy>
  <cp:lastPrinted>2000-08-22T04:10:47Z</cp:lastPrinted>
  <dcterms:modified xsi:type="dcterms:W3CDTF">2009-09-17T14:53:04Z</dcterms:modified>
  <cp:revision>47</cp:revision>
  <dc:subject/>
  <dc:title>Sin título de diapositiva</dc:title>
</cp:coreProperties>
</file>