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8A6-932C-4476-9259-8EDF6E6C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B8F-24D6-4A6D-9E5F-C160895C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CE3-DE1D-4997-8D23-52CF932E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5AB-AA48-4DF9-8955-38100870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C52-CC0B-4B05-AA61-3AB0D0B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31E-FB31-4FD7-89FC-5E05871C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D13-6BE6-459D-A3CB-E1A2CA60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F1F-4936-44A7-93BD-FBB9A3B9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87B-7758-4518-B572-3B26F95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A91-7F69-442F-9DAC-049D3DC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864-CC45-43B9-A075-B8303B21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97F-B134-4D56-9CF6-1FBEB21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B694-9F18-4D8C-96B4-1A6FFF0C77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838080" y="333360"/>
            <a:ext cx="4191120" cy="606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TE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L TALENTO HUMA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VID GONZALO VERA ALCI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METODOLOGÍAS Y NORMATIVAS DEL S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EOCONDA OCAM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AÑO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Francisco Camacho</cp:lastModifiedBy>
  <cp:lastPrinted>2000-08-22T04:10:47Z</cp:lastPrinted>
  <dcterms:modified xsi:type="dcterms:W3CDTF">2012-02-06T20:28:37Z</dcterms:modified>
  <cp:revision>60</cp:revision>
  <dc:subject/>
  <dc:title>Sin título de diapositiva</dc:title>
</cp:coreProperties>
</file>