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D4E-5B16-4F13-BCAE-EC64D813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6FA-9D15-4E20-847A-85771D02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596-ABAA-47A5-BA61-EBC19F4C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44B-CB97-43BD-BE52-8295DF90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8DD-E5F2-4818-8BCF-481246B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483-00E6-4C34-8E44-DE01FC2A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01A-9C43-40EF-ADB6-DE465F8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A4A-AF18-4CFA-B632-031689FE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8C4-7FBE-4A49-A620-D09D43D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E03-9D2E-450A-9B8B-74CA221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474-0C4C-4D7F-BFE6-13885E8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6D4-0E6E-43EC-B83A-179CD086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A34-2677-4DD7-B8DC-CCCEC9145B3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Francisco Camacho</cp:lastModifiedBy>
  <cp:lastPrinted>2000-08-22T04:10:47Z</cp:lastPrinted>
  <dcterms:modified xsi:type="dcterms:W3CDTF">2012-02-06T20:28:37Z</dcterms:modified>
  <cp:revision>60</cp:revision>
  <dc:subject/>
  <dc:title>Sin título de diapositiva</dc:title>
</cp:coreProperties>
</file>