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31386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494-8944-4A30-95E7-61A9F4EA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C5E-7824-443B-BDC1-BBF99D6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265-9F17-4816-A365-754E45FA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BB5-AFC4-4111-8394-94E153E4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E0B-0421-4B5D-A4D4-E3F5D716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1FE-DBCC-4A55-9B31-95D9384A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244-AEAD-4717-942D-A13BE6B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305-3D7F-4825-8A41-F236E831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088-8402-456F-AF56-3FDA60C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A42-F412-40D7-9A17-5640960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033-C939-45F6-96EE-04676C2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45B-92AF-4EAF-9A5E-40E07728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B6DE-3334-40EB-B578-CB1F1187C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12920" y="1752480"/>
            <a:ext cx="916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CUESTA ANUAL DE E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MISOS DE CONSTRUC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0" descr=""/>
          <p:cNvPicPr/>
          <p:nvPr/>
        </p:nvPicPr>
        <p:blipFill>
          <a:blip r:embed="rId1"/>
          <a:stretch/>
        </p:blipFill>
        <p:spPr>
          <a:xfrm>
            <a:off x="2063880" y="2895480"/>
            <a:ext cx="5943600" cy="2281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12920" y="5638680"/>
            <a:ext cx="90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O - 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862440" y="2976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862440" y="2976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6T20:05:34Z</dcterms:created>
  <dc:creator>EXPANSION Y MANTENIMIENTO</dc:creator>
  <dc:description/>
  <dc:language>en-US</dc:language>
  <cp:lastModifiedBy> </cp:lastModifiedBy>
  <cp:lastPrinted>2000-08-22T21:44:32Z</cp:lastPrinted>
  <dcterms:modified xsi:type="dcterms:W3CDTF">2011-08-29T15:09:47Z</dcterms:modified>
  <cp:revision>24</cp:revision>
  <dc:subject/>
  <dc:title>Sin título de diapositiva</dc:title>
</cp:coreProperties>
</file>