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819-C142-4409-8152-6CCAFDE1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909-9EF1-4A7E-AE88-67A981E8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DC7-EBBB-4BCE-9DFA-92A0910E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A86-1F4E-4009-BE69-A3E3C987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ECE-BD85-4A8E-85A5-97FAEC66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E62-4715-4C04-A8E9-43918359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567-E85D-46B5-932F-D5415846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E3A-2615-4093-94BB-06FA93CA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578-B768-41E5-B8C1-975EEC43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179-D709-4D52-90F1-E5D923C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721-1850-4BE8-B2F8-B8B3AC4E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A85-4F8F-4751-AF73-D81FD3E0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99A-1063-4C38-9FA1-4F074682631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895480"/>
            <a:ext cx="327672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      Pablo Loza Cevallos     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838080" y="333360"/>
            <a:ext cx="4191120" cy="606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ORDINADOR TECNICO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ASESORÍA JURÍD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MILE CAMPOZANO VÁS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PLAN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RENDA SEMPÉRTEGUI VANE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L TALENTO HUMAN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ADMINISTRATIVO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VID GONZALO VERA ALCIV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METODOLOGÍAS Y NORMATIVAS DEL S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INFORMACIÓN CARTOGRÁFICA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ECONÓM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EOCONDA OCAMP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CENT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SUR 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571500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AÑO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5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INEC Francisco Camacho</cp:lastModifiedBy>
  <cp:lastPrinted>2000-08-22T04:10:47Z</cp:lastPrinted>
  <dcterms:modified xsi:type="dcterms:W3CDTF">2012-02-06T20:28:37Z</dcterms:modified>
  <cp:revision>60</cp:revision>
  <dc:subject/>
  <dc:title>Sin título de diapositiva</dc:title>
</cp:coreProperties>
</file>