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31386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964-E5B9-43FC-A58E-B586E330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CEA-6EB3-421C-89D5-F093DA83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F62-0846-4FB7-BBEC-A16AA0D2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208-6010-4126-A1BB-E97BAF00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81A-79E3-4F1B-904E-8681B878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76F-A555-4A90-9514-8E4782F9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4C3-2E1B-4F36-BB6F-B30A9EEF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BAA-59E3-4F6C-91B5-DFCE7F4F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6F4-59CB-4128-B71A-645B9EB5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CDE-9DC0-4FEA-AB3C-4A6DB1BB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D85-330E-4C38-B603-D0F827CD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152-EF9E-4A7E-BD26-4B8DE26E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AF70-57E6-48EA-A559-AC70E002BB5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12920" y="1752480"/>
            <a:ext cx="9162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ENCUESTA ANUAL DE ED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(PERMISOS DE CONSTRUC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Object 0" descr=""/>
          <p:cNvPicPr/>
          <p:nvPr/>
        </p:nvPicPr>
        <p:blipFill>
          <a:blip r:embed="rId1"/>
          <a:stretch/>
        </p:blipFill>
        <p:spPr>
          <a:xfrm>
            <a:off x="2063880" y="2895480"/>
            <a:ext cx="5943600" cy="22813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412920" y="5638680"/>
            <a:ext cx="90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TO - 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O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862440" y="2976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862440" y="2976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21812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6T20:05:34Z</dcterms:created>
  <dc:creator>EXPANSION Y MANTENIMIENTO</dc:creator>
  <dc:description/>
  <dc:language>en-US</dc:language>
  <cp:lastModifiedBy>INEC Marcelo Loza</cp:lastModifiedBy>
  <cp:lastPrinted>2000-08-22T21:44:32Z</cp:lastPrinted>
  <dcterms:modified xsi:type="dcterms:W3CDTF">2012-07-02T18:01:08Z</dcterms:modified>
  <cp:revision>25</cp:revision>
  <dc:subject/>
  <dc:title>Sin título de diapositiva</dc:title>
</cp:coreProperties>
</file>