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338-5167-4B09-B818-A1FC3A77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2E1-3CF4-4BBC-881E-D05783EE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635-6C5B-4CDE-9057-F044A167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948-19FE-45D9-B40D-AFEC3C74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62F-56F1-43BC-80A1-D580D011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B2E-4774-40B7-A4FA-24CBDD1E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7B6-D256-4FCF-99E7-CA2336A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0AC-4954-48F0-8CE7-51404BD0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7C6-A395-458D-8D35-55D4664B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4C2-8DB3-4AAC-A25C-C73769E7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509-68BD-45AD-9188-3D0B6C5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50C-40E3-4A94-B8F1-7CA7591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F2E-ABB8-4DF6-B251-716EA828720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UNIDAD DE ESTADÍSTICAS ESTRUCTURALES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rancisco Camacho D.      Pablo Loza C.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vin Gavilán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838080" y="333360"/>
            <a:ext cx="4191120" cy="606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ORDINADOR TECNICO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MILE CAMPOZANO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L TALENTO HUMA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ADMINISTRATIVO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VID GONZALO VERA ALCIV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METODOLOGÍAS Y NORMATIVAS DEL S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EOCONDA OCAMP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AÑO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5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INEC Marcelo Loza</cp:lastModifiedBy>
  <cp:lastPrinted>2000-08-22T04:10:47Z</cp:lastPrinted>
  <dcterms:modified xsi:type="dcterms:W3CDTF">2012-07-24T13:10:32Z</dcterms:modified>
  <cp:revision>65</cp:revision>
  <dc:subject/>
  <dc:title>Sin título de diapositiva</dc:title>
</cp:coreProperties>
</file>