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217-9209-4BAE-9281-D65DAB3F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8D0-332F-43E0-8D0B-AD73DF0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0FB-DD9A-4FF8-930B-CBF01892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522-8535-40B6-B6CD-9F1983AD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5A3-33F3-4598-B67C-345C4211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F5F-5DA4-43E1-88B1-C69BC81F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BC5-F475-4EF2-9964-85BC560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57D-692B-458D-A077-7022E3E3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D16-AA90-4A73-9032-E7C112F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84C-FF75-43D3-8876-72475CF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09E-8B44-4CBF-B0C5-959539D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77F-3D9A-453F-9A8D-8EEEAB9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65B-063F-439C-8EF1-C0899D1C3E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UNIDAD DE ESTADÍSTICAS ESTRUCTURALES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 D.      Pablo Loza C.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Marvin Gaviláne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838080" y="333360"/>
            <a:ext cx="4191120" cy="606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ORDINADOR TE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PLANIFICACIÓ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RENDA SEMPÉRTEGUI VANE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CRETARIO GENERAL Y GESTIÓN DOCUM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L TALENTO HUMA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VID GONZALO VERA ALCI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METODOLOGÍAS Y NORMATIVAS DEL S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EOCONDA OCAMP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TECNOLOGÍ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HYRLEY JACQUELINE PADILLA PR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CENT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AÑO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INEC Marcelo Loza</cp:lastModifiedBy>
  <cp:lastPrinted>2000-08-22T04:10:47Z</cp:lastPrinted>
  <dcterms:modified xsi:type="dcterms:W3CDTF">2012-07-24T13:10:32Z</dcterms:modified>
  <cp:revision>65</cp:revision>
  <dc:subject/>
  <dc:title>Sin título de diapositiva</dc:title>
</cp:coreProperties>
</file>