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F85B-2772-4E99-A4B7-54D2B06C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356-66CE-4F3B-9B73-D343B354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A77-FDE2-4FCD-9F6B-6734F114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380-70D4-438B-ABFA-8B01E843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7C0-B68A-403D-8F30-678B32D9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E19-7B28-46DD-84C3-66ED405D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FE0-66B2-4CBE-9112-069A3C96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18B2-F87C-4280-B996-37517A75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1E4-3D00-4B1A-9C70-9A2B49E9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D08-6A39-4D2C-8927-D5B7DB23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375-9EB1-44A8-992D-250B0ADD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60CE-1CE8-484E-B2A2-40D3108A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50D8-ACE6-4A0E-B13C-E112840FE76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410080" y="2895480"/>
            <a:ext cx="327672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UNIDAD DE ESTADÍSTICAS ESTRUCTURALES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Francisco Camacho D.      Pablo Loza C.     </a:t>
            </a: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Marvin Gaviláne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OPERACION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ED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COMUNICACIÓN SOCIAL Y RELACIONES PÚBL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Talleres Gráf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5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1"/>
          <p:cNvSpPr/>
          <p:nvPr/>
        </p:nvSpPr>
        <p:spPr>
          <a:xfrm>
            <a:off x="838080" y="333360"/>
            <a:ext cx="4191120" cy="606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BYRON ANTONIO VILLACÍS CRU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EJECUTIV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ORGE EDUARDO GARCÍA GUERR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ORDINADOR TECNICO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ÉSAR OSWALDO ZANAFRIA NIQUING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ASESORÍA JURÍD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AMILE CAMPOZANO VÁSQU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PLANIF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AUDITOR INTER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BRENDA SEMPÉRTEGUI VANEG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COMUNICACIÓN 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ÉSAR ROBERTO MORALES PÁ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ECRETARIO GENERAL Y GESTIÓN DOCU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RUTH ELENA PUYOL CORD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L TALENTO HUMAN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ROSSMAN RAMIRO CAMACHO CARR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ADMINISTRATIVO FINANCI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AVID GONZALO VERA ALCIV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METODOLOGÍAS Y NORMATIVAS DEL S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ROSA CATALINA VALLE PIÑUE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INFORMACIÓN CARTOGRÁFICA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ENNIFER NATHALY MARCILLO CHAS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ESTADÍSTICAS AMBIENT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ALIA MAGALY PAREDES BAÑ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ESTADÍSTICAS ECONÓM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ORGE LUIS GÓMEZ PALACI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ESTADÍSTICAS SOCIODEMOGRÁF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GEOCONDA OCAMP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TECNOLOGÍAS DE LA INFORMACIÓN Y COMUNIC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LIVINO MANUEL ARMIJOS TO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ESTUDIOS ANALÍTICOS ESTADÍSTIC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PROCESOS A NIVEL REG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HYRLEY JACQUELINE PADILLA PRO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UANA NOEMÍ GAMBOA VARG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REGIONAL DEL CENTR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OSWALDO UYAGUARI QUEZA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REGIONAL DEL SUR  (E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ESSICA ALEXANDRA MENÉNDEZ CAMP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REGIONAL DEL LITO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5715000" y="22096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Black"/>
              </a:rPr>
              <a:t>AÑO 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35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3" descr=""/>
          <p:cNvPicPr/>
          <p:nvPr/>
        </p:nvPicPr>
        <p:blipFill>
          <a:blip r:embed="rId2"/>
          <a:stretch/>
        </p:blipFill>
        <p:spPr>
          <a:xfrm>
            <a:off x="5943600" y="1143000"/>
            <a:ext cx="21812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INEC Marcelo Loza</cp:lastModifiedBy>
  <cp:lastPrinted>2000-08-22T04:10:47Z</cp:lastPrinted>
  <dcterms:modified xsi:type="dcterms:W3CDTF">2012-07-24T13:10:32Z</dcterms:modified>
  <cp:revision>65</cp:revision>
  <dc:subject/>
  <dc:title>Sin título de diapositiva</dc:title>
</cp:coreProperties>
</file>