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B401-E5E1-44B9-A92B-1CA397F8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B11-89C1-4FBB-BF60-CBC64BC5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8C6-7400-456D-A9A7-BCB94824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398-21F2-4B49-8611-3CE0B25E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3E44-CE48-40E9-8963-77F48BC0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6F0-2EF4-4391-A233-9C40D1ED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23A-4BD2-43C8-B8D0-D728C026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022-DE5A-4A71-BEF6-59C6662A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976-027B-43DC-8518-4D29EF1F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490-0115-4328-8DFD-E90B3647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E96-FD25-43AA-BBB3-C69C3614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236-6BE7-41AC-8C5E-232DF0FB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9DD0-D0B3-46F3-A7FA-557E4D5F2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EPARTAMENTO DE ESTADÍSTICAS INDUST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Arturo de la Cadena B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aime Cevallos 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scar Aguir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Geoconda Ocam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ackson Villo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Luis Muril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Marisol Gonzále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ora Tino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ÁFICOS DEL I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Germán Rojas Idro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UBDIRECTOR GENERAL  SUBDIRECTOR GENERALTE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orge Magaldi Sánchez                              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JURID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Vicente Sobrevilla Vallej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ESARROLLO ESTADÍST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Y PLANIF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ésar Amores Le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IFUSIÓN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dison Panamá Mor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RECURSOS HUMAN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ERVICIOS ADMINISTRATIVO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iovani Guerra Corr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FINANCI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olón Jaramillo Veg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ESTADÍST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CONÓM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rnesto Caizaguano Vim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ESTADÍS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OCIO-DEMOGRÁFICA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Tania Pérez Ram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INFORMÁT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Italia Carbonell Yonf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Luis Horna Huara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uricio Rodríquez Lóp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REGIONAL DEL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Lucía  Dominguez Vásqu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REGIONAL DEL LITORA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iana Torres de Bustaman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E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19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 rot="10800000">
          <a:off x="5562720" y="837720"/>
          <a:ext cx="1600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5562720" y="83772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DECON</cp:lastModifiedBy>
  <cp:lastPrinted>1999-06-19T13:48:40Z</cp:lastPrinted>
  <dcterms:modified xsi:type="dcterms:W3CDTF">2003-12-03T21:13:12Z</dcterms:modified>
  <cp:revision>47</cp:revision>
  <dc:subject/>
  <dc:title>Sin título de diapositiva</dc:title>
</cp:coreProperties>
</file>