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B60-BA7D-4A51-AE54-3C7D245F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792-67CC-4C8A-BDAC-9A9F8DC7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B94-CDA5-49C7-8DC1-AE1D6B19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6B7-40DD-4978-A8EB-48AEF731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05C-DEE8-4D05-8DA2-30AC6226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90B-E64B-4CD0-A291-3CC7FDAC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96F-B4C9-4B1B-9802-A5CA21EC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1B8-474F-4446-A90B-48C55726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332-07B7-49A5-9B86-312CDA49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9CA-92BB-446B-B0D4-657E80A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A5B-4473-485A-8163-5A13620A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3B2-405E-4572-B80B-567A2C9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6D97-AC5B-4625-B8FE-1B656574E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Bélgica Defaz 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ime Cevallos 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usana Cos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ntiago Agu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Luis Muri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Ruth R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hny Cevallos Muño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JURÍ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Patricio Ron Tor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 Sierra Rey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Hortencia Unda Pro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stavo Vi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ESTADÍ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ÓM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cío Zambrano Zambr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ÁF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INFORMÁ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ené Tamayo Sil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illermo Mora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DECON</cp:lastModifiedBy>
  <cp:lastPrinted>2001-01-30T18:59:46Z</cp:lastPrinted>
  <dcterms:modified xsi:type="dcterms:W3CDTF">2003-12-04T15:23:13Z</dcterms:modified>
  <cp:revision>34</cp:revision>
  <dc:subject/>
  <dc:title>Sin título de diapositiva</dc:title>
</cp:coreProperties>
</file>