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BAF-DFC7-470A-BE07-52C9E426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B60-3FCC-4020-81B5-50BFA39E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FD5-F812-446A-AE79-E82C2AF8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65C-83C4-4DC4-B916-A546AAE9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2F8-B454-4485-ADAE-63ED3447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13B-EF59-4E23-88D5-40BF45D4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A1D-0C1B-48E5-A3DD-E67D99E9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E1A-3DB5-4639-ACEF-F77D630E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EDA-8792-48BB-9916-F9831EBF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B0B-7FE8-4BF8-90ED-D7CEAFB7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795-A339-4AA3-832F-C7BFCF26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093-520C-4309-88C2-DDD9386F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371A-0AE7-4365-ACB2-7E6C0ED0A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Í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Bélgica Defaz 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Geoconda Ocam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antiago Agu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Luis Muril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Marisol Gonzále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ora Tino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A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hny Cevallos Muño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SUBDIRECTOR GENERAL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JURÍDICA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Í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ÓN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abián Santacruz Guzmá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DIFUS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Hortencia Unda Pro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mmel Illescas Truj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ustavo Vintimilla Vel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ESTADÍ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ÓM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cío Zambrano Zambr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Í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ÁF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áximo Ortega Galar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INFORMÁT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driana Espinoza M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 Sierra Rey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arlos Chaquinga Ma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uillermo Mora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o Sáenz Ozae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DECON</cp:lastModifiedBy>
  <cp:lastPrinted>2001-01-30T18:59:46Z</cp:lastPrinted>
  <dcterms:modified xsi:type="dcterms:W3CDTF">2003-12-05T13:35:35Z</dcterms:modified>
  <cp:revision>41</cp:revision>
  <dc:subject/>
  <dc:title>Sin título de diapositiva</dc:title>
</cp:coreProperties>
</file>