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D0F-6F77-49D9-9BB8-72755C09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BA8-F7BB-42F4-A0DC-39BE393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C33-E9F6-435D-8C62-0FBD8BDF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7BA-2ADD-4D8D-A9E6-8F934303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753-3CF8-4CB4-8755-FD48E1F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FC6-4E0E-445C-B0DC-7955FB1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220-88FD-49D7-867C-99758515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D71-DC11-40EC-B7D7-001DD22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19B-B3BC-4EE0-9CF8-7FC9618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1AA-B19A-414B-A184-D793618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83B-A504-42D2-91E4-3A36219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B94-E464-4805-93E8-FD136E1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06F9-3658-4BC0-A658-ECB0732E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élgica Defaz 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ckson Villo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avid Pla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 Benavi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JURID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ÓN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emigio Burbano Rive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ermán Gonzál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Í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ÓM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ÁF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ilar Ortiz Mej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ÁTICA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Amaya Acos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alberto Andra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CENT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raciela de Bra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swaldo Uyagua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914400"/>
            <a:ext cx="1524240" cy="2286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AL 4 DE FEBRERO DEL 200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Belgica Defas</cp:lastModifiedBy>
  <cp:lastPrinted>2001-01-30T18:59:46Z</cp:lastPrinted>
  <dcterms:modified xsi:type="dcterms:W3CDTF">2003-02-05T20:40:50Z</dcterms:modified>
  <cp:revision>57</cp:revision>
  <dc:subject/>
  <dc:title>Sin título de diapositiva</dc:title>
</cp:coreProperties>
</file>