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664325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B95B8-C191-40A7-AEE1-2584B405E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A073B-0AFA-40F2-97E0-D9B7CCE89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E9081-BFD0-4B2A-A7B1-24F20AC76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D79DD-B6F2-4308-A429-3CDA1DCA3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CF69D-0A00-4DFF-B17C-2DF544894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E109F-265B-4C54-B939-9BDAB8FC2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6E433-1E09-46D5-BDF4-73DC58F35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6F620-3501-4074-8405-0FF6762AA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41BA6-3939-4710-B0D7-9FA52FF0A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FE196-DF7F-4D5B-B24B-85030CEF2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B8565-1F3C-4B0B-89D6-0ECAD762C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03E63-CBDE-46A2-A722-63E1ABFA0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C0926-6D92-4728-B649-65F6D79D65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oleObject" Target="../embeddings/oleObject1.bin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34120" y="2133720"/>
            <a:ext cx="3273480" cy="32004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334120" y="5562720"/>
            <a:ext cx="327636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5333760" y="2133720"/>
            <a:ext cx="327636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 u="sng">
                <a:solidFill>
                  <a:srgbClr val="000000"/>
                </a:solidFill>
                <a:uFillTx/>
                <a:latin typeface="Arial Black"/>
              </a:rPr>
              <a:t>ADMINISTRACIÓN CENTR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ctr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ctr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Arial Black"/>
              </a:rPr>
              <a:t>DEPARTAMENTO DE ESTADÍSTICAS INDUSTRIAL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ctr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Black"/>
              </a:rPr>
              <a:t>Jaime Cevallos 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ctr">
              <a:lnSpc>
                <a:spcPct val="75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Black"/>
              </a:rPr>
              <a:t>Bélgica Defaz H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ctr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ctr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Arial Black"/>
              </a:rPr>
              <a:t>ANÁLISIS DE SISTEMA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ctr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Black"/>
              </a:rPr>
              <a:t>Oscar Aguirr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ctr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Black"/>
              </a:rPr>
              <a:t>Geoconda Ocamp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ctr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 u="sng">
                <a:solidFill>
                  <a:srgbClr val="000000"/>
                </a:solidFill>
                <a:uFillTx/>
                <a:latin typeface="Arial Black"/>
              </a:rPr>
              <a:t>DIRECCIONES REGIONA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ctr">
              <a:lnSpc>
                <a:spcPct val="75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ctr">
              <a:lnSpc>
                <a:spcPct val="75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Black"/>
              </a:rPr>
              <a:t>Jackson Villot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ctr">
              <a:lnSpc>
                <a:spcPct val="75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Black"/>
              </a:rPr>
              <a:t>Luis Murill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ctr">
              <a:lnSpc>
                <a:spcPct val="75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Black"/>
              </a:rPr>
              <a:t>Ruth Riva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ctr">
              <a:lnSpc>
                <a:spcPct val="75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Black"/>
              </a:rPr>
              <a:t>Santiago Abri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ctr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ctr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 Black"/>
              </a:rPr>
              <a:t>IMPRES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 Black"/>
              </a:rPr>
              <a:t>TALLERES GRAFICOS DEL INE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ctr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685800"/>
            <a:ext cx="2438280" cy="5638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38080" y="685800"/>
            <a:ext cx="4191120" cy="5715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Arial Black"/>
              </a:rPr>
              <a:t>DIRECTOR GENER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Arial Black"/>
              </a:rPr>
              <a:t>Víctor Manuel Escobar Benavid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 Black"/>
              </a:rPr>
              <a:t>           </a:t>
            </a:r>
            <a:r>
              <a:rPr b="1" lang="es-ES_tradnl" sz="800" spc="-1" strike="noStrike">
                <a:solidFill>
                  <a:srgbClr val="000000"/>
                </a:solidFill>
                <a:latin typeface="Arial Black"/>
              </a:rPr>
              <a:t>SUBDIRECTOR GENERAL     SUBDIRECTOR GENERAL TÉCNI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Arial Black"/>
              </a:rPr>
              <a:t>                 </a:t>
            </a:r>
            <a:r>
              <a:rPr b="1" lang="es-ES_tradnl" sz="700" spc="-1" strike="noStrike">
                <a:solidFill>
                  <a:srgbClr val="000000"/>
                </a:solidFill>
                <a:latin typeface="Arial Black"/>
              </a:rPr>
              <a:t>Jorge Magaldi Sánchez                               Galo Arias Veloz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AUDITOR GENER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Marco Villavicencio Ortiz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DIRECTORA JURÍDICA (E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Flavia Racines Carrasc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DIRECTOR DE DESARROLLO ESTADÍSTICO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Y PLANIFICACIÓN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Milton Naranjo Rivadeneir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DIRECTOR DE DIFUSIÓN ESTADÍSTICA (E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Luis Guadalupe Castill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DIRECTOR DE RECURSOS HUMANOS Y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SERVICIOS ADMINISTRATIVOS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César Fierro Can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DIRECTOR FINANCIERO (E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Orlando Narváez Enríquez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DIRECTOR DE ESTADÍSTICAS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ECONÓMICAS (E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Arturo de la Cadena B.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DIRECTOR DE ESTADÍSTICA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SOCIO-DEMOGRÁFICAS (E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Stalín Ramos Alvarad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DIRECTOR DE INFORMÁTICA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Carlos Calispa Pedraz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DIRECTOR REGIONAL DEL NORTE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Edwin Fuertes López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DIRECTOR REGIONAL DEL CENTRO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Fernando Sandov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DIRECTORA REGIONAL DEL SUR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Ana Gabriela Jiménez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DIRECTOR REGIONAL DEL LITORAL (E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Roberto Sáenz Ozaet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09680" y="914400"/>
            <a:ext cx="1524240" cy="22860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Black"/>
              </a:rPr>
              <a:t>DIRECTORIO</a:t>
            </a: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486400" y="2133720"/>
            <a:ext cx="3048120" cy="30456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PERSONAL TÉCNICO RESPONS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4120" y="685800"/>
            <a:ext cx="3200400" cy="129528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238880" y="1066680"/>
            <a:ext cx="129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Black"/>
              </a:rPr>
              <a:t>AÑO 200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057400" y="838080"/>
            <a:ext cx="1828800" cy="5335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 rot="10800000">
          <a:off x="5562720" y="837720"/>
          <a:ext cx="1600200" cy="990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 rot="10800000">
                    <a:off x="5562720" y="837720"/>
                    <a:ext cx="160020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28T14:23:58Z</dcterms:created>
  <dc:creator>DESARROLLO DE SISTEMAS</dc:creator>
  <dc:description/>
  <dc:language>en-US</dc:language>
  <cp:lastModifiedBy>DECON</cp:lastModifiedBy>
  <cp:lastPrinted>2001-01-30T18:59:46Z</cp:lastPrinted>
  <dcterms:modified xsi:type="dcterms:W3CDTF">2004-01-20T13:56:38Z</dcterms:modified>
  <cp:revision>75</cp:revision>
  <dc:subject/>
  <dc:title>Sin título de diapositiva</dc:title>
</cp:coreProperties>
</file>