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51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51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1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209680" y="1066680"/>
          <a:ext cx="55627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55627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" name=""/>
          <p:cNvGraphicFramePr/>
          <p:nvPr/>
        </p:nvGraphicFramePr>
        <p:xfrm>
          <a:off x="380880" y="5029200"/>
          <a:ext cx="170676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029200"/>
                    <a:ext cx="17067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8153280" y="4191120"/>
          <a:ext cx="136872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191120"/>
                    <a:ext cx="136872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22280" y="196704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510"/>
                </a:solidFill>
                <a:latin typeface="Arial Black"/>
              </a:rPr>
              <a:t>ENCUESTA ANUAL DE MANUFACTURA Y MINERIA</a:t>
            </a:r>
            <a:endParaRPr b="0" lang="en-US" sz="40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1640" y="5929200"/>
            <a:ext cx="344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510"/>
                </a:solidFill>
                <a:latin typeface="Arial Black"/>
              </a:rPr>
              <a:t>TOMO 1</a:t>
            </a:r>
            <a:endParaRPr b="0" lang="en-US" sz="2800" spc="-1" strike="noStrike">
              <a:solidFill>
                <a:srgbClr val="00051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304920"/>
            <a:ext cx="358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510"/>
                </a:solidFill>
                <a:latin typeface="Arial Black"/>
              </a:rPr>
              <a:t>QUITO-ECUADOR 2002</a:t>
            </a:r>
            <a:endParaRPr b="0" lang="en-US" sz="2400" spc="-1" strike="noStrike">
              <a:solidFill>
                <a:srgbClr val="00051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914400" y="380880"/>
          <a:ext cx="236232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10800000">
                    <a:off x="914400" y="380880"/>
                    <a:ext cx="23623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7:59:40Z</dcterms:created>
  <dc:creator>César Caamaño Barba</dc:creator>
  <dc:description/>
  <dc:language>en-US</dc:language>
  <cp:lastModifiedBy>DECON</cp:lastModifiedBy>
  <cp:lastPrinted>2000-06-28T12:39:50Z</cp:lastPrinted>
  <dcterms:modified xsi:type="dcterms:W3CDTF">2003-12-17T13:26:49Z</dcterms:modified>
  <cp:revision>16</cp:revision>
  <dc:subject/>
  <dc:title>ENCUESTA DE MANUFACTURA Y MINERIA</dc:title>
</cp:coreProperties>
</file>