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BCC7-AE51-4F92-B7C5-B8D3175E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45E0-0F2F-41EF-8462-345DC52E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2DD4-8FA9-4C26-9A69-FCE44921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F0C-C1B5-498B-9B13-5B1AE98D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E5F7-19D5-4422-B6A9-86D8290A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E78-DC13-4E3A-9D7C-7EF948A5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220-50F2-4AA6-AD6E-CBC716F1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7B6-A5C9-4594-9470-16B53773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753-1E08-4852-A059-216E6934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B29-82D2-4416-BD40-76ECD7E5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D31-C000-447C-828F-4ED2A9F1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94D-B105-4AA2-B5A1-6D0FA36C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F417-23AD-4099-B1FF-5B5726AA4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EPARTAMENTO DE ESTADÍSTICAS INDUST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Jaime Cevallos 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Oscar Aguir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Geoconda Ocam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 u="sng">
                <a:solidFill>
                  <a:srgbClr val="000000"/>
                </a:solidFill>
                <a:uFillTx/>
                <a:latin typeface="Arial Black"/>
              </a:rPr>
              <a:t>OPERACION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EDI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OMUNICACIÓN Y DIFUSIÓN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TALLERES GRAFICOS DEL INE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Luis Alfredo Carrillo Jaramil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Myriam  Soledad Peñafiel Ullaur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ASEGURAMIENTO DE LA CALIDAD DE GES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Víctor Manuel Guanoluis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JURIDIC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Marco  Vinicio Villavicencio Orti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AUDITOR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Luis Guadalupe Castil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COORDINADOR DE COMUNICACIÓN Y DIFUSIÓN ESTADÍST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Verónica Patricia Benalcázar Romá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GESTIÓN DE LA PRODUCCIÓN ESTADÍST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Ana Gabriela Jiménez Córdov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DEGESTIÓN DEL ANÁLISIS ESTADÍST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Sandra Elizabeth Sarango Loachamí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GESTIÓN DE DESARROLLO TECNOLÓGICO ESTADÍST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Marcelo Ruano Chamor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DE GESTIÓN DE DESARROLLO ORGANIZACIONAL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Edwin Ramiro Sandoval Villare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GESTIÓN DE RECURSOS FINANCIERO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ROCESOS DESCONCENTR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ackson Armando Villota Lóp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REGIONAL DEL NORTE (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Fernando Aníbal Sandoval Moli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Katty Alexandra Andrade Laz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SU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Rafael  Emilio Valdez Reque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REGIONAL DEL LITORAL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38880" y="10666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ÑO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 rot="10800000">
          <a:off x="5562720" y="837720"/>
          <a:ext cx="1600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5562720" y="837720"/>
                    <a:ext cx="1600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.</cp:lastModifiedBy>
  <cp:lastPrinted>2001-01-30T18:59:46Z</cp:lastPrinted>
  <dcterms:modified xsi:type="dcterms:W3CDTF">2005-01-12T13:08:36Z</dcterms:modified>
  <cp:revision>81</cp:revision>
  <dc:subject/>
  <dc:title>Sin título de diapositiva</dc:title>
</cp:coreProperties>
</file>