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8381880" y="4876920"/>
            <a:ext cx="869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676520" y="2590920"/>
            <a:ext cx="6933960" cy="16761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849320" y="2590920"/>
            <a:ext cx="66088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SUMENES NACIONALES, SEGUN AGRUPACIONES CIIU 3 Y C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3T14:35:32Z</dcterms:created>
  <dc:creator>CESAR CAAMAÑO BARBA</dc:creator>
  <dc:description/>
  <dc:language>en-US</dc:language>
  <cp:lastModifiedBy>mpazmino</cp:lastModifiedBy>
  <cp:lastPrinted>2000-05-17T16:40:52Z</cp:lastPrinted>
  <dcterms:modified xsi:type="dcterms:W3CDTF">2006-06-05T15:17:46Z</dcterms:modified>
  <cp:revision>35</cp:revision>
  <dc:subject/>
  <dc:title>CALENDARIOS INVESTIGACIONES</dc:title>
</cp:coreProperties>
</file>