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66B-74DA-47C4-829C-D1C80A38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0C1-DC15-4099-88F1-3A7484D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83F-E384-4633-9D4C-AAEFE068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3ED-E895-4FD7-BE14-18FD828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7A0-9F85-4E07-89C4-531151C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837-4739-45FC-B2F6-0D330B10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B93-C1DE-44F8-BB50-C8547FC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8AB-1ED6-4664-AA50-2F5D538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2B5-72A7-4D60-8338-94B6F7B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D85-F850-4778-9E45-614C462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9F4-7CEA-45D9-BE7A-C4C6186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2DF-C66A-432B-964A-16B6466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B42-D8E0-4EE9-8195-178B4F1755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773360"/>
            <a:ext cx="3095640" cy="39416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2057400"/>
            <a:ext cx="2971800" cy="3549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SISTEMA DE ESTADISTICAS ECONO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COORDINADOR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ERSONAL TECNICO RESPONSABLE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Margarita Viera      Verónica Velasquez                    </a:t>
            </a: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Marcelo Loza           Marco Pazmiñ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Oscar Aguirre          Galo 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PLICACIONES Y PROCESAMIENTO INFORMA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PERACIONALIZ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00720" y="5867280"/>
            <a:ext cx="2017800" cy="50328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32400" y="5867280"/>
            <a:ext cx="1839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ALLERES GRAFICOS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497640" y="303120"/>
            <a:ext cx="1603440" cy="1038240"/>
            <a:chOff x="6497640" y="303120"/>
            <a:chExt cx="1603440" cy="1038240"/>
          </a:xfrm>
        </p:grpSpPr>
        <p:sp>
          <p:nvSpPr>
            <p:cNvPr id="47" name=""/>
            <p:cNvSpPr/>
            <p:nvPr/>
          </p:nvSpPr>
          <p:spPr>
            <a:xfrm>
              <a:off x="6755040" y="303120"/>
              <a:ext cx="11736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75400" y="423720"/>
              <a:ext cx="28260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97640" y="612720"/>
              <a:ext cx="3193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8280" y="509400"/>
              <a:ext cx="1908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78800" y="5079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55120" y="509400"/>
              <a:ext cx="4896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09120" y="509400"/>
              <a:ext cx="460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0160" y="509400"/>
              <a:ext cx="208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8560" y="509400"/>
              <a:ext cx="619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83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24760" y="509400"/>
              <a:ext cx="7632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59560" y="626760"/>
              <a:ext cx="748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7960" y="626760"/>
              <a:ext cx="6984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04280" y="628560"/>
              <a:ext cx="633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6200" y="63000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88160" y="628560"/>
              <a:ext cx="7812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6267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6120" y="62676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10640" y="630000"/>
              <a:ext cx="316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4000" y="630000"/>
              <a:ext cx="619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39160" y="630000"/>
              <a:ext cx="5076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46960" y="749160"/>
              <a:ext cx="5076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6280" y="747360"/>
              <a:ext cx="5076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1720" y="749160"/>
              <a:ext cx="4464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77280" y="74592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51800" y="749160"/>
              <a:ext cx="619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15160" y="749160"/>
              <a:ext cx="208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37480" y="747360"/>
              <a:ext cx="4932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93280" y="749160"/>
              <a:ext cx="4428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32880" y="74916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56640" y="747360"/>
              <a:ext cx="619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10640" y="745920"/>
              <a:ext cx="6984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18640" y="749160"/>
              <a:ext cx="5544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8160" y="857160"/>
              <a:ext cx="637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857160"/>
              <a:ext cx="5112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99400" y="853920"/>
              <a:ext cx="7632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75720" y="857160"/>
              <a:ext cx="50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27920" y="857160"/>
              <a:ext cx="7632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5680" y="857160"/>
              <a:ext cx="5112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31200" y="421920"/>
              <a:ext cx="60300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4840" y="1049040"/>
              <a:ext cx="1443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7080" y="1001520"/>
              <a:ext cx="31752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88360" y="1000080"/>
              <a:ext cx="27000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996840"/>
              <a:ext cx="258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14400" y="1676520"/>
            <a:ext cx="4495680" cy="48560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18288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200400"/>
            <a:ext cx="284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ASEGURAMI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CALIDAD DE 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366084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ablo Jácome Jaramil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JURI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13080" y="3203640"/>
            <a:ext cx="1908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í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5320" y="3733920"/>
            <a:ext cx="30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uis Guadalupe Cast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COORDINADOR DE COMUNICACIO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4022640"/>
            <a:ext cx="2305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ía Soledad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TECNICA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L ANALISIS ESTADI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19112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PRODUCCION ESTADI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25780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atricio López Toromor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RR.HH. Y SERVICIO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791320"/>
            <a:ext cx="299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iana Vergara Orti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TECNICA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RECURSOS FINANCIE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5025960"/>
            <a:ext cx="2376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oberto Sáenz Ozaet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5080" y="4568760"/>
            <a:ext cx="2303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odrigo Martínez Peñaherr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NOR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0720" y="5791320"/>
            <a:ext cx="251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ancy Flores Hinojos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REGIONAL DEL CEN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41008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iguel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garra Aguir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72428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SARROLLO TECNOLOGICO ESTADI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2130480"/>
            <a:ext cx="266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Quinteros Vel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7120" y="2511360"/>
            <a:ext cx="33498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TECNICO DE GESTION ESTRATEGICA INSTITU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6-06-05T15:00:54Z</dcterms:modified>
  <cp:revision>87</cp:revision>
  <dc:subject/>
  <dc:title>Sin título de diapositiva</dc:title>
</cp:coreProperties>
</file>