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52480" y="2590920"/>
            <a:ext cx="6553440" cy="1676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819520"/>
            <a:ext cx="6207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CUADROS ESTADI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15:41Z</dcterms:modified>
  <cp:revision>33</cp:revision>
  <dc:subject/>
  <dc:title>CALENDARIOS INVESTIGACIONES</dc:title>
</cp:coreProperties>
</file>