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381880" y="487692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52480" y="2590920"/>
            <a:ext cx="6553440" cy="16761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49320" y="2819520"/>
            <a:ext cx="62071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2  PRODUCTOS ELAB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6-05T15:21:58Z</dcterms:modified>
  <cp:revision>38</cp:revision>
  <dc:subject/>
  <dc:title>CALENDARIOS INVESTIGACIONES</dc:title>
</cp:coreProperties>
</file>