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381880" y="487692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676520" y="2590920"/>
            <a:ext cx="6553080" cy="16761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49320" y="2647800"/>
            <a:ext cx="62071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1  MATERIAS PRI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UM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6-05T15:20:24Z</dcterms:modified>
  <cp:revision>37</cp:revision>
  <dc:subject/>
  <dc:title>CALENDARIOS INVESTIGACIONES</dc:title>
</cp:coreProperties>
</file>