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381880" y="487692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752480" y="2590920"/>
            <a:ext cx="6553440" cy="1828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49320" y="2819520"/>
            <a:ext cx="6207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3.  INDICE DE CUAD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DI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pazmino</cp:lastModifiedBy>
  <cp:lastPrinted>2000-05-17T16:40:52Z</cp:lastPrinted>
  <dcterms:modified xsi:type="dcterms:W3CDTF">2006-06-05T15:30:43Z</dcterms:modified>
  <cp:revision>35</cp:revision>
  <dc:subject/>
  <dc:title>CALENDARIOS INVESTIGACIONES</dc:title>
</cp:coreProperties>
</file>