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57240" y="2637000"/>
            <a:ext cx="6551640" cy="1223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RESUMEN EJ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57240" y="2637000"/>
            <a:ext cx="6551640" cy="1223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RESUMEN GRA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57240" y="2637000"/>
            <a:ext cx="6551640" cy="1223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UADROS ESTADI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57240" y="2637000"/>
            <a:ext cx="6551640" cy="1223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NOTAS METODOLO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57240" y="2637000"/>
            <a:ext cx="6551640" cy="1223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s-EC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E DE CUADROS ESTADI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USUARIO</cp:lastModifiedBy>
  <cp:lastPrinted>2000-05-17T16:40:52Z</cp:lastPrinted>
  <dcterms:modified xsi:type="dcterms:W3CDTF">2007-01-04T22:14:09Z</dcterms:modified>
  <cp:revision>34</cp:revision>
  <dc:subject/>
  <dc:title>CALENDARIOS INVESTIGACIONES</dc:title>
</cp:coreProperties>
</file>