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0A4-81F9-4E8E-B352-6B254672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E9C-3944-497F-AA49-E3C35A6C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5AE-5CD9-47F9-AFA4-05906825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4B9-1A2D-4CFE-A489-BFBC5310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C07-CDEE-48D5-911A-EC6BDC4A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0BB-B099-4097-8D33-79883D1E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5D1-711F-47A1-9459-65FD81D9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C0D-2515-48B1-82F7-63A0A525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FDC-5645-44F3-9CDF-9AC80EE7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CF2-9290-41CE-A01D-CC9B5667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E50-259C-4C52-877F-D222DF65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767-36BE-4D98-A8E1-158F7DC6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8913-20EE-40FE-A6C6-644A251C9F7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5640" y="907920"/>
            <a:ext cx="136836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ÑO 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24360" y="1773360"/>
            <a:ext cx="3095640" cy="371304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989000"/>
            <a:ext cx="3132360" cy="38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ESTADISTICAS ESTRUCTURALES DE EMPRES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Y ESTABLECIMIENTOS ECONO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JEFE: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Arturo De La Cadena</a:t>
            </a:r>
            <a:r>
              <a:rPr b="0" lang="es-ES_tradnl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RESPONSABLE: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garita Vier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APLICACIONES Y PROCESAMIENTO INFORMATIC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NOR: Francisco Camacho  DICEN: Dora Tino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ISUR:  Marisol González      DILIT: Jorge Salazar</a:t>
            </a:r>
            <a:r>
              <a:rPr b="1" lang="es-ES_tradnl" sz="5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Se incluye además al personal que realiza el operativo de campo, crítica y codificación de l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5715000"/>
            <a:ext cx="2819520" cy="76212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715000"/>
            <a:ext cx="2819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UNICACION SOCIAL Y RELACIONES PUBL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MPRENTA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497640" y="303120"/>
            <a:ext cx="1603440" cy="1038240"/>
            <a:chOff x="6497640" y="303120"/>
            <a:chExt cx="1603440" cy="1038240"/>
          </a:xfrm>
        </p:grpSpPr>
        <p:sp>
          <p:nvSpPr>
            <p:cNvPr id="47" name=""/>
            <p:cNvSpPr/>
            <p:nvPr/>
          </p:nvSpPr>
          <p:spPr>
            <a:xfrm>
              <a:off x="6755040" y="303120"/>
              <a:ext cx="117360" cy="3394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75400" y="423720"/>
              <a:ext cx="282600" cy="31752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97640" y="612720"/>
              <a:ext cx="319320" cy="33480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58280" y="509400"/>
              <a:ext cx="19080" cy="7632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78800" y="5079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55120" y="509400"/>
              <a:ext cx="48960" cy="777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09120" y="509400"/>
              <a:ext cx="460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0160" y="509400"/>
              <a:ext cx="20880" cy="7632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75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18560" y="509400"/>
              <a:ext cx="61920" cy="7776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83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24760" y="509400"/>
              <a:ext cx="76320" cy="7776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59560" y="626760"/>
              <a:ext cx="748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27960" y="626760"/>
              <a:ext cx="69840" cy="7776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04280" y="628560"/>
              <a:ext cx="63360" cy="7776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66200" y="63000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88160" y="628560"/>
              <a:ext cx="78120" cy="7776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67720" y="6267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36120" y="62676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10640" y="630000"/>
              <a:ext cx="31680" cy="7452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74000" y="630000"/>
              <a:ext cx="61920" cy="7452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39160" y="630000"/>
              <a:ext cx="50760" cy="7452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46960" y="749160"/>
              <a:ext cx="50760" cy="7452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6280" y="747360"/>
              <a:ext cx="5076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51720" y="749160"/>
              <a:ext cx="44640" cy="7452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77280" y="74592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51800" y="749160"/>
              <a:ext cx="61920" cy="7452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15160" y="749160"/>
              <a:ext cx="20880" cy="7452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37480" y="747360"/>
              <a:ext cx="4932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93280" y="749160"/>
              <a:ext cx="44280" cy="7452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32880" y="74916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56640" y="747360"/>
              <a:ext cx="61920" cy="7956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10640" y="745920"/>
              <a:ext cx="69840" cy="7776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18640" y="749160"/>
              <a:ext cx="55440" cy="7452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88160" y="857160"/>
              <a:ext cx="63720" cy="7776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50080" y="857160"/>
              <a:ext cx="51120" cy="7452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99400" y="853920"/>
              <a:ext cx="76320" cy="824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75720" y="857160"/>
              <a:ext cx="5076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27920" y="857160"/>
              <a:ext cx="76320" cy="7776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05680" y="857160"/>
              <a:ext cx="5112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31200" y="421920"/>
              <a:ext cx="603000" cy="67320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54840" y="1049040"/>
              <a:ext cx="144360" cy="27648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7080" y="1001520"/>
              <a:ext cx="317520" cy="33336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88360" y="1000080"/>
              <a:ext cx="270000" cy="34128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996840"/>
              <a:ext cx="258840" cy="34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71720" y="115920"/>
            <a:ext cx="1555560" cy="1440000"/>
            <a:chOff x="1071720" y="115920"/>
            <a:chExt cx="1555560" cy="14400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071720" y="115920"/>
              <a:ext cx="13413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116000" y="141120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14400" y="1752480"/>
            <a:ext cx="4464000" cy="4751640"/>
          </a:xfrm>
          <a:prstGeom prst="rect">
            <a:avLst/>
          </a:prstGeom>
          <a:solidFill>
            <a:srgbClr val="e3ffe3"/>
          </a:solid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1844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2895480"/>
            <a:ext cx="19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ilton Altuna Hidal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LANIFICAC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01760" y="3352680"/>
            <a:ext cx="2050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ablo Jácome Jaramillo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 DE ASESORIA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352680"/>
            <a:ext cx="19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aúl Salazar Espi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UDI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76200" y="4876920"/>
            <a:ext cx="2305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Mariana Vergara Ort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RECURS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7520" y="3733920"/>
            <a:ext cx="2059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alo Arias Veloz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PRODUCCI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ESTAD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STICA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S ECONO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343400"/>
            <a:ext cx="2130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Francisco Fernández Espi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RECURSOS HUMAN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Y SERVICIOS ADMINISTRAT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60199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odrigo Segarra Aguirre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SUR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733920"/>
            <a:ext cx="2303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Claudio Gallardo León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PRODUCCION DE ESTADISTICAS SOCIODEMOGRA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5565600"/>
            <a:ext cx="205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osé Sánchez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343400"/>
            <a:ext cx="220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José Cerón Villama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DESARROL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TECNOLOGICO ESTADI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2255760"/>
            <a:ext cx="2664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Byron Villacís Cru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RECTOR GENERAL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819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Mauricio Hualpa Esp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DE GESTION ESTRATEGICA INSTITU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81320" y="556560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Rodrigo Martínez Peñaherrera D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IRECTOR REGIONAL DEL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NO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25780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60199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Nancy Flores Hinoj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REGIONAL DEL CENTRO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mloza</cp:lastModifiedBy>
  <cp:lastPrinted>2000-09-19T06:11:10Z</cp:lastPrinted>
  <dcterms:modified xsi:type="dcterms:W3CDTF">2007-06-05T16:39:00Z</dcterms:modified>
  <cp:revision>85</cp:revision>
  <dc:subject/>
  <dc:title>Sin título de diapositiva</dc:title>
</cp:coreProperties>
</file>