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DCA-666C-4A15-A231-F337D2EA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148-D04D-42D7-ADC3-5FF4F97E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954-104A-4E0F-9037-5F48307E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DF10-C128-4AC2-9D86-91226EA0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E7E-0D37-4F68-B79A-8C3C09B4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A95-CB97-429A-B0BD-07EB96AD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8F5-F1D7-494A-8A32-DE5717E8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B2F-5028-4319-82BC-24A88211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AEFA-D873-4482-B8AC-D92E7986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55E-0B11-4972-8C1D-B80EABB1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71A-AE10-4005-8081-366A5E88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6FD-031F-477C-94C4-E1B178A7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21D8-DD85-4868-8092-1388FDEA9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95640" y="404640"/>
            <a:ext cx="1368360" cy="30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AÑO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00000" y="1125360"/>
            <a:ext cx="7956720" cy="4751280"/>
            <a:chOff x="900000" y="1125360"/>
            <a:chExt cx="7956720" cy="4751280"/>
          </a:xfrm>
        </p:grpSpPr>
        <p:sp>
          <p:nvSpPr>
            <p:cNvPr id="43" name=""/>
            <p:cNvSpPr/>
            <p:nvPr/>
          </p:nvSpPr>
          <p:spPr>
            <a:xfrm>
              <a:off x="5724360" y="1125360"/>
              <a:ext cx="3095640" cy="3713040"/>
            </a:xfrm>
            <a:prstGeom prst="rect">
              <a:avLst/>
            </a:prstGeom>
            <a:solidFill>
              <a:srgbClr val="e3ff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724360" y="1485720"/>
              <a:ext cx="3132360" cy="35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ERSONAL TECNICO RESPONS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DMINISTRACION CENTR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STADISTICAS ESTRUCTURALES DE EMPRESA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Y ESTABLECIMIENTOS ECONOMIC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JEFE: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       Arturo De La Cadena</a:t>
              </a: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ESPONSABLE: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rgarita Vier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APLICACIONES Y PROCESAMIENTO INFORMATICO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austo Sánche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OPERACIONALIZ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IRECCIONES REGION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67280" y="5067000"/>
              <a:ext cx="2819520" cy="762120"/>
            </a:xfrm>
            <a:prstGeom prst="rect">
              <a:avLst/>
            </a:prstGeom>
            <a:solidFill>
              <a:srgbClr val="e3ff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867280" y="5067000"/>
              <a:ext cx="28195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di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MUNICACION SOCIAL Y RELACIONES PUBLIC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pre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MPRENTA DEL INE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00000" y="1125360"/>
              <a:ext cx="4464000" cy="4751280"/>
            </a:xfrm>
            <a:prstGeom prst="rect">
              <a:avLst/>
            </a:prstGeom>
            <a:solidFill>
              <a:srgbClr val="e3ffe3"/>
            </a:solidFill>
            <a:ln w="9360">
              <a:solidFill>
                <a:srgbClr val="000000"/>
              </a:solidFill>
              <a:miter/>
            </a:ln>
            <a:effectLst>
              <a:outerShdw dist="117181" dir="243836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84360" y="119664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RECTO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11280" y="1989000"/>
              <a:ext cx="19288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Rossman Camacho Carr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SUBDIRECTOR GENER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87280" y="2493720"/>
              <a:ext cx="20512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imes New Roman"/>
                </a:rPr>
                <a:t>César Zanafria Niquinga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IRECTOR </a:t>
              </a:r>
              <a:r>
                <a:rPr b="1" lang="es-MX" sz="800" spc="-1" strike="noStrike">
                  <a:solidFill>
                    <a:srgbClr val="000000"/>
                  </a:solidFill>
                  <a:latin typeface="Times New Roman"/>
                </a:rPr>
                <a:t> DE ASESORÍA JURÍD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03640" y="4941720"/>
              <a:ext cx="2089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imes New Roman"/>
                </a:rPr>
                <a:t>José Castro Carras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IRECTOR REGIONAL DEL LITOR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16000" y="2997000"/>
              <a:ext cx="20588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Marco Villavicencio Ortiz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AUDITOR INTER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59280" y="3573000"/>
              <a:ext cx="2130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imes New Roman"/>
                </a:rPr>
                <a:t>Galo Arias Velo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IRECTOR </a:t>
              </a:r>
              <a:r>
                <a:rPr b="1" lang="es-MX" sz="800" spc="-1" strike="noStrike">
                  <a:solidFill>
                    <a:srgbClr val="000000"/>
                  </a:solidFill>
                  <a:latin typeface="Times New Roman"/>
                </a:rPr>
                <a:t>DE PRODUCCIÓN DE ESTADÍSTICAS ECONÓMIC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76720" y="53719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imes New Roman"/>
                </a:rPr>
                <a:t>Rodrigo Segarra Aguirre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IRECTOR </a:t>
              </a:r>
              <a:r>
                <a:rPr b="1" lang="es-MX" sz="800" spc="-1" strike="noStrike">
                  <a:solidFill>
                    <a:srgbClr val="000000"/>
                  </a:solidFill>
                  <a:latin typeface="Times New Roman"/>
                </a:rPr>
                <a:t>REGIONAL DEL SUR</a:t>
              </a: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87640" y="2997000"/>
              <a:ext cx="2303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imes New Roman"/>
                </a:rPr>
                <a:t>Ruth Puyol Cordero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IRECTORA </a:t>
              </a:r>
              <a:r>
                <a:rPr b="1" lang="es-MX" sz="800" spc="-1" strike="noStrike">
                  <a:solidFill>
                    <a:srgbClr val="000000"/>
                  </a:solidFill>
                  <a:latin typeface="Times New Roman"/>
                </a:rPr>
                <a:t>DE RECURSOS HUMANOS Y SERVICIOS ADMINISTRATIV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35320" y="4076280"/>
              <a:ext cx="21286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imes New Roman"/>
                </a:rPr>
                <a:t>Carlos Obando Revel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IRECTOR DE DESARROLLO TECNOLÓGICO ESTADÍSTICO (SUB.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16000" y="3573000"/>
              <a:ext cx="21369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imes New Roman"/>
                </a:rPr>
                <a:t>Hugo Freire Almeid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IRECTOR </a:t>
              </a:r>
              <a:r>
                <a:rPr b="1" lang="es-MX" sz="800" spc="-1" strike="noStrike">
                  <a:solidFill>
                    <a:srgbClr val="000000"/>
                  </a:solidFill>
                  <a:latin typeface="Times New Roman"/>
                </a:rPr>
                <a:t>DE RECURSOS FINANCIER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08000" y="1607760"/>
              <a:ext cx="26640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imes New Roman"/>
                </a:rPr>
                <a:t>Byron Villacís Cru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DIRECTOR GENERAL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00000" y="4927320"/>
              <a:ext cx="2305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imes New Roman"/>
                </a:rPr>
                <a:t>David Manosalvas Vinuez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IRECTOR REGIONAL DEL </a:t>
              </a:r>
              <a:r>
                <a:rPr b="1" lang="es-MX" sz="800" spc="-1" strike="noStrike">
                  <a:solidFill>
                    <a:srgbClr val="000000"/>
                  </a:solidFill>
                  <a:latin typeface="Times New Roman"/>
                </a:rPr>
                <a:t>NOR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62320" y="4609800"/>
              <a:ext cx="2305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Times New Roman"/>
                </a:rPr>
                <a:t>PROCESOS A NIVEL REGION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19320" y="5371920"/>
              <a:ext cx="2133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imes New Roman"/>
                </a:rPr>
                <a:t>Jorge García Guerre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IRECTOR </a:t>
              </a:r>
              <a:r>
                <a:rPr b="1" lang="es-MX" sz="800" spc="-1" strike="noStrike">
                  <a:solidFill>
                    <a:srgbClr val="000000"/>
                  </a:solidFill>
                  <a:latin typeface="Times New Roman"/>
                </a:rPr>
                <a:t>REGIONAL DEL CENTRO</a:t>
              </a: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14560" y="4076280"/>
              <a:ext cx="2233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imes New Roman"/>
                </a:rPr>
                <a:t>Julio Ortega Andra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IRECTOR </a:t>
              </a:r>
              <a:r>
                <a:rPr b="1" lang="es-MX" sz="800" spc="-1" strike="noStrike">
                  <a:solidFill>
                    <a:srgbClr val="000000"/>
                  </a:solidFill>
                  <a:latin typeface="Times New Roman"/>
                </a:rPr>
                <a:t>DE PRODUCCIÓN DE ESTADÍSTICAS SOCIODEMOGRÁFIC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03640" y="2493720"/>
              <a:ext cx="19288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Claudio Gallardo Le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IRECTOR </a:t>
              </a:r>
              <a:r>
                <a:rPr b="1" lang="es-MX" sz="800" spc="-1" strike="noStrike">
                  <a:solidFill>
                    <a:srgbClr val="000000"/>
                  </a:solidFill>
                  <a:latin typeface="Times New Roman"/>
                </a:rPr>
                <a:t>DE PLANIFICA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227640" y="5952960"/>
            <a:ext cx="21812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10:43:05Z</dcterms:created>
  <dc:creator>Estadísticas Industriales</dc:creator>
  <dc:description/>
  <dc:language>en-US</dc:language>
  <cp:lastModifiedBy>mviera</cp:lastModifiedBy>
  <cp:lastPrinted>2000-09-19T06:11:10Z</cp:lastPrinted>
  <dcterms:modified xsi:type="dcterms:W3CDTF">2008-12-29T21:03:43Z</dcterms:modified>
  <cp:revision>90</cp:revision>
  <dc:subject/>
  <dc:title>Sin título de diapositiva</dc:title>
</cp:coreProperties>
</file>