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354-85F0-4023-9851-FC78820E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61F-4496-4B35-96DE-E3FCC7B2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12E-66AF-43C7-A3AA-3D0C5612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CE2-E523-465A-A57D-605C64DB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B6B-F4DF-4639-973C-47DCB292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2C2-600B-4463-8E22-05D468BD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6F7-94C0-47A9-BACE-8178DE98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797-65B3-44D6-94FF-D2E89717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88F-53F1-4692-8899-2EA8D12B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E1F-D089-404F-9466-DAB23532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D99-F08F-4181-9ABB-2BD9A645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A35-2C2D-41C7-9CDD-73F9960C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6C29-8405-45DA-9394-9E7AA9371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84480" y="393840"/>
            <a:ext cx="1390680" cy="3402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AÑO 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24360" y="1125360"/>
            <a:ext cx="3095640" cy="37134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1484280"/>
            <a:ext cx="309564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STADÍSTICAS ESTRUCTURALES DE EMPRES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 ESTABLECIMIENTOS ECONÓM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EFE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Arturo De La Caden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SPONSABLE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rgarita Vier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PLICACIONES Y PROCESAMIENTO INFORMÁTICO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lanca  Almach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OPERACIONA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5067360"/>
            <a:ext cx="2819520" cy="762120"/>
          </a:xfrm>
          <a:prstGeom prst="rect">
            <a:avLst/>
          </a:prstGeom>
          <a:solidFill>
            <a:srgbClr val="e3ff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5084640"/>
            <a:ext cx="2819520" cy="76356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d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MUNICACION SOCIAL Y RELACIONES PUBL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MPRENTA DEL IN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1125360"/>
            <a:ext cx="4464000" cy="5040360"/>
          </a:xfrm>
          <a:prstGeom prst="rect">
            <a:avLst/>
          </a:prstGeom>
          <a:gradFill rotWithShape="0">
            <a:gsLst>
              <a:gs pos="0">
                <a:srgbClr val="8db18d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1197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1989000"/>
            <a:ext cx="252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Jorge Eduardo García Guerr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SUBDIREC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2494080"/>
            <a:ext cx="2051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César Oswaldo Zanafria Niquinga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 DE ASESORÍA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5734080"/>
            <a:ext cx="23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Jessica Alexandra Menéndez Camp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REGIONAL DEL LI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2924280"/>
            <a:ext cx="2058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rco Villavicencio Ortiz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AUDITOR INTER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335772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Rossman Ramiro Camacho Carr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RECURSOS FINANCI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5734080"/>
            <a:ext cx="198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Miguel Rodrigo Segarra Aguirre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REGIONAL DEL SUR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3357720"/>
            <a:ext cx="23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Ruth Elena Puyol Cordero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RECURSOS HUMAN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Y SERVICIOS ADMINISTRAT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3933720"/>
            <a:ext cx="223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José Alfredo Intriago Confo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DE PRODUCCIÓN DE ESTADÍSTICAS SOCIODEMOGRÁF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450864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William Rafael Huertas Quish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DESARROLLO TECNOLÓGICO ESTADÍS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8000" y="1608120"/>
            <a:ext cx="26640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Byron Antonio Villacís Cru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IRECTOR GENERAL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5288040"/>
            <a:ext cx="2305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Jennifer Nathaly Marcillo Chas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IRECTORA REGIONAL DEL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NO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5013360"/>
            <a:ext cx="2305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Times New Roman"/>
              </a:rPr>
              <a:t>PROCESOS A NIVEL REG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530064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Juana Noemí Gamboa Var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REGIONAL DEL CENTRO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3933720"/>
            <a:ext cx="223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Edwin Vladimir Buenaño Hermo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PRODUCCIÓN DE ESTADÍSTICAS 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494080"/>
            <a:ext cx="2016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avid Rafael Maya Alme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PLANIFICACIÓN, E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227640" y="5952960"/>
            <a:ext cx="218124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987640" y="2924280"/>
            <a:ext cx="2303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César Roberto Morales Paéz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SECRETARI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0:43:05Z</dcterms:created>
  <dc:creator>Estadísticas Industriales</dc:creator>
  <dc:description/>
  <dc:language>en-US</dc:language>
  <cp:lastModifiedBy>Margarita Viera</cp:lastModifiedBy>
  <cp:lastPrinted>2000-09-19T06:11:10Z</cp:lastPrinted>
  <dcterms:modified xsi:type="dcterms:W3CDTF">2010-11-25T15:47:47Z</dcterms:modified>
  <cp:revision>92</cp:revision>
  <dc:subject/>
  <dc:title>Sin título de diapositiva</dc:title>
</cp:coreProperties>
</file>