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88F9-3F78-428F-8DC9-7EF682A7C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3902-E887-4872-935A-C882D2FE6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8415-A299-4838-B695-9261A4FC2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3AFC-DBF9-49A0-9BAB-1FD43B9B7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AD04-0D36-4365-A83E-8D3FFE7F5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D466-AC25-4336-B546-A4E5863B6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5377-F14D-4957-8D56-7A457AA4A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7D67-20AF-4297-9DD2-997688DC9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D242-C2B3-4FAC-9332-240412CB6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FA79-7986-44CF-8E14-55D10AD08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8E97-0992-42DB-8B4B-53B970687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9955-0301-41A4-AE59-CF0ED010D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7E3B2-4685-404F-8C5A-C80B4BD21B74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13"/>
          <p:cNvSpPr/>
          <p:nvPr/>
        </p:nvSpPr>
        <p:spPr>
          <a:xfrm>
            <a:off x="3984480" y="393840"/>
            <a:ext cx="1390680" cy="3402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Bookman Old Style"/>
              </a:rPr>
              <a:t>AÑO 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25"/>
          <p:cNvSpPr/>
          <p:nvPr/>
        </p:nvSpPr>
        <p:spPr>
          <a:xfrm>
            <a:off x="5724360" y="1125360"/>
            <a:ext cx="3095640" cy="371340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5e765e"/>
              </a:gs>
            </a:gsLst>
            <a:lin ang="27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5724360" y="1484280"/>
            <a:ext cx="3095640" cy="36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PERSONAL TÉCNICO RESPONS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ADMINISTRACIÓN CENTR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imes New Roman"/>
              </a:rPr>
              <a:t>ESTADÍSTICAS ESTRUCTURALES DE EMPRESA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imes New Roman"/>
              </a:rPr>
              <a:t>Y ESTABLECIMIENTOS ECONÓMIC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</a:rPr>
              <a:t>JEFE:</a:t>
            </a: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        Arturo De La Cadena</a:t>
            </a:r>
            <a:r>
              <a:rPr b="0" lang="es-ES_tradnl" sz="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</a:rPr>
              <a:t>RESPONSABLE:</a:t>
            </a: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Margarita Viera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imes New Roman"/>
              </a:rPr>
              <a:t>APLICACIONES Y PROCESAMIENTO INFORMÁTICO</a:t>
            </a: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Blanca  Almachi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000" spc="-1" strike="noStrike">
                <a:solidFill>
                  <a:srgbClr val="000000"/>
                </a:solidFill>
                <a:latin typeface="Times New Roman"/>
              </a:rPr>
              <a:t>OPERACIONALIZA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DIRECCIONES REGIONA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24"/>
          <p:cNvSpPr/>
          <p:nvPr/>
        </p:nvSpPr>
        <p:spPr>
          <a:xfrm>
            <a:off x="5867280" y="5067360"/>
            <a:ext cx="2819520" cy="762120"/>
          </a:xfrm>
          <a:prstGeom prst="rect">
            <a:avLst/>
          </a:prstGeom>
          <a:solidFill>
            <a:srgbClr val="e3ff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21"/>
          <p:cNvSpPr/>
          <p:nvPr/>
        </p:nvSpPr>
        <p:spPr>
          <a:xfrm>
            <a:off x="5867280" y="5084640"/>
            <a:ext cx="2819520" cy="76356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5e765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Edi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COMUNICACION SOCIAL Y RELACIONES PUBLIC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Impres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IMPRENTA DEL INE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109"/>
          <p:cNvSpPr/>
          <p:nvPr/>
        </p:nvSpPr>
        <p:spPr>
          <a:xfrm>
            <a:off x="1042920" y="1413000"/>
            <a:ext cx="4464000" cy="504036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8eb28e"/>
              </a:gs>
            </a:gsLst>
            <a:lin ang="2700000"/>
          </a:gradFill>
          <a:ln w="9360">
            <a:solidFill>
              <a:srgbClr val="000000"/>
            </a:solidFill>
            <a:miter/>
          </a:ln>
          <a:effectLst>
            <a:outerShdw dist="117181" dir="2438368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3"/>
          <p:cNvSpPr/>
          <p:nvPr/>
        </p:nvSpPr>
        <p:spPr>
          <a:xfrm>
            <a:off x="2484360" y="98100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DIRECTOR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82"/>
          <p:cNvSpPr/>
          <p:nvPr/>
        </p:nvSpPr>
        <p:spPr>
          <a:xfrm>
            <a:off x="3059280" y="2276640"/>
            <a:ext cx="2304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Marco Villavicencio Orti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Times New Roman"/>
              </a:rPr>
              <a:t>AUDITOR INTER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83"/>
          <p:cNvSpPr/>
          <p:nvPr/>
        </p:nvSpPr>
        <p:spPr>
          <a:xfrm>
            <a:off x="3241800" y="1916280"/>
            <a:ext cx="20509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Times New Roman"/>
              </a:rPr>
              <a:t>César Oswaldo Zanafria Niquinga</a:t>
            </a: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Times New Roman"/>
              </a:rPr>
              <a:t>DIRECTOR </a:t>
            </a:r>
            <a:r>
              <a:rPr b="1" lang="es-MX" sz="800" spc="-1" strike="noStrike">
                <a:solidFill>
                  <a:srgbClr val="000000"/>
                </a:solidFill>
                <a:latin typeface="Times New Roman"/>
              </a:rPr>
              <a:t> DE ASESORÍA JURÍDIC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84"/>
          <p:cNvSpPr/>
          <p:nvPr/>
        </p:nvSpPr>
        <p:spPr>
          <a:xfrm>
            <a:off x="971640" y="6006960"/>
            <a:ext cx="23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Times New Roman"/>
              </a:rPr>
              <a:t>Jéssica Alexandra Menéndez Camp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Times New Roman"/>
              </a:rPr>
              <a:t>DIRECTORA  REGIONAL DEL LITOR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87"/>
          <p:cNvSpPr/>
          <p:nvPr/>
        </p:nvSpPr>
        <p:spPr>
          <a:xfrm>
            <a:off x="971640" y="4581360"/>
            <a:ext cx="20588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Jennifer Nathaly Marcillo Chasy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Times New Roman"/>
              </a:rPr>
              <a:t>DIRECTORA DE ESTADÍSTICAS AMBIENTAL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88"/>
          <p:cNvSpPr/>
          <p:nvPr/>
        </p:nvSpPr>
        <p:spPr>
          <a:xfrm flipV="1" rot="10807800">
            <a:off x="3131640" y="2638800"/>
            <a:ext cx="2448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Times New Roman"/>
              </a:rPr>
              <a:t>Rossman Ramiro Camacho Carr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Times New Roman"/>
              </a:rPr>
              <a:t>DIRECTOR  ADMINISTRATIVO FINANCIER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89"/>
          <p:cNvSpPr/>
          <p:nvPr/>
        </p:nvSpPr>
        <p:spPr>
          <a:xfrm>
            <a:off x="3276720" y="6004080"/>
            <a:ext cx="19810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Times New Roman"/>
              </a:rPr>
              <a:t>Oswaldo Uyaguari Quezada</a:t>
            </a: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Times New Roman"/>
              </a:rPr>
              <a:t>DIRECTOR </a:t>
            </a:r>
            <a:r>
              <a:rPr b="1" lang="es-MX" sz="800" spc="-1" strike="noStrike">
                <a:solidFill>
                  <a:srgbClr val="000000"/>
                </a:solidFill>
                <a:latin typeface="Times New Roman"/>
              </a:rPr>
              <a:t>REGIONAL DEL SUR </a:t>
            </a:r>
            <a:r>
              <a:rPr b="1" lang="es-ES" sz="800" spc="-1" strike="noStrike">
                <a:solidFill>
                  <a:srgbClr val="000000"/>
                </a:solidFill>
                <a:latin typeface="Times New Roman"/>
              </a:rPr>
              <a:t>(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91"/>
          <p:cNvSpPr/>
          <p:nvPr/>
        </p:nvSpPr>
        <p:spPr>
          <a:xfrm>
            <a:off x="971640" y="2637000"/>
            <a:ext cx="2305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Times New Roman"/>
              </a:rPr>
              <a:t>Ruth Elena Puyol Cordero</a:t>
            </a: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Times New Roman"/>
              </a:rPr>
              <a:t>DIRECTORA </a:t>
            </a:r>
            <a:r>
              <a:rPr b="1" lang="es-MX" sz="800" spc="-1" strike="noStrike">
                <a:solidFill>
                  <a:srgbClr val="000000"/>
                </a:solidFill>
                <a:latin typeface="Times New Roman"/>
              </a:rPr>
              <a:t>DE ADMINISTRACIÓN </a:t>
            </a:r>
            <a:br>
              <a:rPr sz="800"/>
            </a:br>
            <a:r>
              <a:rPr b="1" lang="es-MX" sz="800" spc="-1" strike="noStrike">
                <a:solidFill>
                  <a:srgbClr val="000000"/>
                </a:solidFill>
                <a:latin typeface="Times New Roman"/>
              </a:rPr>
              <a:t>DEL TALENTO HUMA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93"/>
          <p:cNvSpPr/>
          <p:nvPr/>
        </p:nvSpPr>
        <p:spPr>
          <a:xfrm>
            <a:off x="3132000" y="4076640"/>
            <a:ext cx="22320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Times New Roman"/>
              </a:rPr>
              <a:t>Jorge Luis Gómez Palaci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Times New Roman"/>
              </a:rPr>
              <a:t>DIRECTOR  DE ESTADÍSTICAS SOCIODEMOGRÁFIC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94"/>
          <p:cNvSpPr/>
          <p:nvPr/>
        </p:nvSpPr>
        <p:spPr>
          <a:xfrm>
            <a:off x="971640" y="3068640"/>
            <a:ext cx="2376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Times New Roman"/>
              </a:rPr>
              <a:t>Elizabeth Geoconda Ocampo Gavilane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Times New Roman"/>
              </a:rPr>
              <a:t>DIRECTORA  </a:t>
            </a:r>
            <a:r>
              <a:rPr b="1" lang="es-MX" sz="800" spc="-1" strike="noStrike">
                <a:solidFill>
                  <a:srgbClr val="000000"/>
                </a:solidFill>
                <a:latin typeface="Times New Roman"/>
              </a:rPr>
              <a:t>DE TECNOLOGÍAS DE LA INFORMACIÓN Y COMUNIC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95"/>
          <p:cNvSpPr/>
          <p:nvPr/>
        </p:nvSpPr>
        <p:spPr>
          <a:xfrm>
            <a:off x="1908000" y="1484280"/>
            <a:ext cx="266400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Times New Roman"/>
              </a:rPr>
              <a:t>Byron Antonio Villacís Cru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DIRECTOR EJECUTIVO </a:t>
            </a: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116"/>
          <p:cNvSpPr/>
          <p:nvPr/>
        </p:nvSpPr>
        <p:spPr>
          <a:xfrm>
            <a:off x="900000" y="5648400"/>
            <a:ext cx="230508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Times New Roman"/>
              </a:rPr>
              <a:t>Shyrley Jacqueline Padilla P. D</a:t>
            </a:r>
            <a:r>
              <a:rPr b="1" lang="es-ES" sz="800" spc="-1" strike="noStrike">
                <a:solidFill>
                  <a:srgbClr val="000000"/>
                </a:solidFill>
                <a:latin typeface="Times New Roman"/>
              </a:rPr>
              <a:t>IRECTORA REGIONAL DEL </a:t>
            </a:r>
            <a:r>
              <a:rPr b="1" lang="es-MX" sz="800" spc="-1" strike="noStrike">
                <a:solidFill>
                  <a:srgbClr val="000000"/>
                </a:solidFill>
                <a:latin typeface="Times New Roman"/>
              </a:rPr>
              <a:t>NOR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18"/>
          <p:cNvSpPr/>
          <p:nvPr/>
        </p:nvSpPr>
        <p:spPr>
          <a:xfrm>
            <a:off x="2050920" y="5430960"/>
            <a:ext cx="23050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900" spc="-1" strike="noStrike">
                <a:solidFill>
                  <a:srgbClr val="000000"/>
                </a:solidFill>
                <a:latin typeface="Times New Roman"/>
              </a:rPr>
              <a:t>PROCESOS A NIVEL REGION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19"/>
          <p:cNvSpPr/>
          <p:nvPr/>
        </p:nvSpPr>
        <p:spPr>
          <a:xfrm>
            <a:off x="3230640" y="566100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Times New Roman"/>
              </a:rPr>
              <a:t>Juana Noemí Gamboa Varg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Times New Roman"/>
              </a:rPr>
              <a:t>DIRECTORA </a:t>
            </a:r>
            <a:r>
              <a:rPr b="1" lang="es-MX" sz="800" spc="-1" strike="noStrike">
                <a:solidFill>
                  <a:srgbClr val="000000"/>
                </a:solidFill>
                <a:latin typeface="Times New Roman"/>
              </a:rPr>
              <a:t>REGIONAL DEL CENTRO</a:t>
            </a:r>
            <a:r>
              <a:rPr b="1" lang="es-E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120"/>
          <p:cNvSpPr/>
          <p:nvPr/>
        </p:nvSpPr>
        <p:spPr>
          <a:xfrm>
            <a:off x="971640" y="4076640"/>
            <a:ext cx="2160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Times New Roman"/>
              </a:rPr>
              <a:t>Dalia Magaly Paredes Bañ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Times New Roman"/>
              </a:rPr>
              <a:t>DIRECTORA  </a:t>
            </a:r>
            <a:r>
              <a:rPr b="1" lang="es-MX" sz="800" spc="-1" strike="noStrike">
                <a:solidFill>
                  <a:srgbClr val="000000"/>
                </a:solidFill>
                <a:latin typeface="Times New Roman"/>
              </a:rPr>
              <a:t>DE ESTADÍSTICA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Times New Roman"/>
              </a:rPr>
              <a:t>ECONÓMIC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121"/>
          <p:cNvSpPr/>
          <p:nvPr/>
        </p:nvSpPr>
        <p:spPr>
          <a:xfrm>
            <a:off x="1187280" y="2276640"/>
            <a:ext cx="201636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Jamile Campozano Vásque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Times New Roman"/>
              </a:rPr>
              <a:t>DIRECTOR A </a:t>
            </a:r>
            <a:r>
              <a:rPr b="1" lang="es-MX" sz="800" spc="-1" strike="noStrike">
                <a:solidFill>
                  <a:srgbClr val="000000"/>
                </a:solidFill>
                <a:latin typeface="Times New Roman"/>
              </a:rPr>
              <a:t>DE PLANIFIC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122" descr=""/>
          <p:cNvPicPr/>
          <p:nvPr/>
        </p:nvPicPr>
        <p:blipFill>
          <a:blip r:embed="rId2"/>
          <a:stretch/>
        </p:blipFill>
        <p:spPr>
          <a:xfrm>
            <a:off x="6227640" y="5952960"/>
            <a:ext cx="2181240" cy="905040"/>
          </a:xfrm>
          <a:prstGeom prst="rect">
            <a:avLst/>
          </a:prstGeom>
          <a:ln w="0">
            <a:noFill/>
          </a:ln>
        </p:spPr>
      </p:pic>
      <p:sp>
        <p:nvSpPr>
          <p:cNvPr id="64" name="Text Box 128"/>
          <p:cNvSpPr/>
          <p:nvPr/>
        </p:nvSpPr>
        <p:spPr>
          <a:xfrm>
            <a:off x="3276720" y="3068640"/>
            <a:ext cx="2305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Brenda Sempértegui Vanega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Times New Roman"/>
              </a:rPr>
              <a:t>DIRECTORA DE COMUNICACIÓN SOCI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129"/>
          <p:cNvSpPr/>
          <p:nvPr/>
        </p:nvSpPr>
        <p:spPr>
          <a:xfrm>
            <a:off x="3132000" y="4581360"/>
            <a:ext cx="23050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Times New Roman"/>
              </a:rPr>
              <a:t>Livino Manuel Armijos To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Times New Roman"/>
              </a:rPr>
              <a:t>DIRECTOR  DE ESTUDIOS ANALÍTICOS ESTADÍSTIC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130"/>
          <p:cNvSpPr/>
          <p:nvPr/>
        </p:nvSpPr>
        <p:spPr>
          <a:xfrm>
            <a:off x="1042920" y="3573360"/>
            <a:ext cx="205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David Gonzalo Vera Alcívar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Times New Roman"/>
              </a:rPr>
              <a:t>DIRECTOR  DE NORMATIVAS Y METODOLOGÍAS DEL S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131"/>
          <p:cNvSpPr/>
          <p:nvPr/>
        </p:nvSpPr>
        <p:spPr>
          <a:xfrm flipV="1" rot="10807800">
            <a:off x="1762920" y="5016240"/>
            <a:ext cx="28083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Times New Roman"/>
              </a:rPr>
              <a:t>César Roberto Morales Páe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Times New Roman"/>
              </a:rPr>
              <a:t>SECRETARIO GENERAL Y GESTIÓN DOCUMENT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130"/>
          <p:cNvSpPr/>
          <p:nvPr/>
        </p:nvSpPr>
        <p:spPr>
          <a:xfrm>
            <a:off x="3276720" y="3573360"/>
            <a:ext cx="20588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Rosa Catalina Valle Piñuela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Times New Roman"/>
              </a:rPr>
              <a:t>DIRECTORA  DE INFORMACIÓN CARTOGRÁFICA ESTADÍSTIC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82"/>
          <p:cNvSpPr/>
          <p:nvPr/>
        </p:nvSpPr>
        <p:spPr>
          <a:xfrm>
            <a:off x="971640" y="1916280"/>
            <a:ext cx="2305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Jorge Eduardo García Guerre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Times New Roman"/>
              </a:rPr>
              <a:t>COORDINADOR TÉCNICO GENER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19T10:43:05Z</dcterms:created>
  <dc:creator>Estadísticas Industriales</dc:creator>
  <dc:description/>
  <dc:language>en-US</dc:language>
  <cp:lastModifiedBy>INEC Margarita Viera</cp:lastModifiedBy>
  <cp:lastPrinted>2000-09-19T06:11:10Z</cp:lastPrinted>
  <dcterms:modified xsi:type="dcterms:W3CDTF">2012-02-03T15:07:46Z</dcterms:modified>
  <cp:revision>113</cp:revision>
  <dc:subject/>
  <dc:title>Sin título de diapositiva</dc:title>
</cp:coreProperties>
</file>