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EAD-F9F8-4856-94B8-8BC57B6A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30A-7DCB-4EE4-A0EB-4EFDC18B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624-542C-4ED3-8CD8-2ABE0729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59D-EA87-4A71-B8D2-2355F9B1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F05-7305-460E-A2E6-243AF683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2AA-D92B-43D7-BF9D-75C1FE8B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148-81FF-46C4-B0E9-EDAC68C0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52F-3067-4166-8A9E-0D55C3A5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88D1-8B54-4532-9B84-971CF6C5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4C2-740A-4F59-A11E-9B52D179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6A2-0C10-4ACC-A149-D418C456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CCC-B04D-4AD7-89BA-1DC077B9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2BE2-9AF2-4BC8-881D-925F45B46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EPARTAMENTO DE ESTADÍSTICAS 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Arturo de la Cadena Báe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Bélgica Defaz Hered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scar Aguir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Geoconda Ocam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ego Pazmi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orge Salaz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Marisol Gonzále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ora Tino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ÁFICOS DEL I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Germán Rojas Idro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DIRECTOR GENERAL     SUBDIRECTOR GENERAL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Magaldi Sánchez                               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 JURÍD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Vicente Sobrevilla Vallej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ESARROLLO ESTADÍ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Y PLANIFICACIO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ésar Amores Le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IFUSIÓN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dison Panamá Mor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RECURSOS HUMAN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ERVICIOS ADMINISTRATIVOS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iovani Guerra Corr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FINANCIER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olón Jaramillo Veg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ÍS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CONÓMICAS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rnesto Caizaguano Vim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 DE ESTADÍS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OCIO-DEMOGRÁFICAS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Tania Pérez Ram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 DE INFORMÁT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Italia Carbonell Yonf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Luis Horna Huara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uricio Rodríguez Lóp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 REGIONAL DEL SUR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Lucia Domínguez Vás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 REGIONAL DEL LITORA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iana Torres de Bustaman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19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mpazmino</cp:lastModifiedBy>
  <cp:lastPrinted>2001-01-30T18:59:46Z</cp:lastPrinted>
  <dcterms:modified xsi:type="dcterms:W3CDTF">2003-12-09T15:14:59Z</dcterms:modified>
  <cp:revision>43</cp:revision>
  <dc:subject/>
  <dc:title>Sin título de diapositiva</dc:title>
</cp:coreProperties>
</file>