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A94-C1A1-402E-A73F-30A6BDF9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328-A051-4C44-8127-F051494A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F18-C423-473E-BF1C-C5F4558D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862-4B22-4360-9250-7327FC31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EB9-34B1-4A30-A37E-1D15DD3D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4DF-607F-4F08-848E-49A6261D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CD0-03A7-459F-8C3C-F3D1CA67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F81-8903-49C0-AB09-7121621D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AFA-5DE6-4E6F-856C-39B48E44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CF8-77A7-41C1-88F1-797A4FE9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0C5-7AB6-445A-AF95-81BA6AE5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B3E-30A1-4DE1-95C2-643E58BE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409B-13D0-4B64-A4A3-456FD312B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575080"/>
            <a:ext cx="4724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CUESTA ANUAL 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TELES RESTAURANT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 SERVICIO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2" name=""/>
          <p:cNvGraphicFramePr/>
          <p:nvPr/>
        </p:nvGraphicFramePr>
        <p:xfrm rot="10800000">
          <a:off x="914400" y="837720"/>
          <a:ext cx="30481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914400" y="837720"/>
                    <a:ext cx="3048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20760" y="5294160"/>
            <a:ext cx="33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ÑO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QUITO - 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176076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BD05773_" descr=""/>
          <p:cNvPicPr/>
          <p:nvPr/>
        </p:nvPicPr>
        <p:blipFill>
          <a:blip r:embed="rId4"/>
          <a:stretch/>
        </p:blipFill>
        <p:spPr>
          <a:xfrm flipH="1">
            <a:off x="6684840" y="3809880"/>
            <a:ext cx="16970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9:51:40Z</dcterms:created>
  <dc:creator>Estadísticas Industriales</dc:creator>
  <dc:description/>
  <dc:language>en-US</dc:language>
  <cp:lastModifiedBy>mpazmino</cp:lastModifiedBy>
  <dcterms:modified xsi:type="dcterms:W3CDTF">2003-12-09T15:02:28Z</dcterms:modified>
  <cp:revision>9</cp:revision>
  <dc:subject/>
  <dc:title>Sin título de diapositiva</dc:title>
</cp:coreProperties>
</file>