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F6F1-8748-4E61-B49E-FBEC1DAEC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73B8-97A5-4D8C-8AD7-1617CB3F4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D115-2180-417C-80FF-F7E7A2165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3A71-7A88-4C38-A881-6B2698B91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2572-1146-4E0F-8F2C-1C6B2EA00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2F67-628F-485F-9843-E58495EE3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95CD-7070-4E3C-989A-B08493DB6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9CCF-DCB6-40E9-A0BB-A71767671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AFC3-64EB-4220-8298-75FBD71DD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BD14-3F8C-4DD0-BF50-01D4D2BA3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EFF0-848C-4686-B781-7E54DC9F8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28F7-6C48-4EBC-AD43-3F086D8F9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557BF-3776-426B-B563-25894B10F8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990720" y="2575080"/>
            <a:ext cx="4724280" cy="17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NCUESTA ANUAL DE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HOTELES RESTAURANTES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Y SERVICIOS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42" name=""/>
          <p:cNvGraphicFramePr/>
          <p:nvPr/>
        </p:nvGraphicFramePr>
        <p:xfrm rot="10800000">
          <a:off x="914400" y="837720"/>
          <a:ext cx="3048120" cy="99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 rot="10800000">
                    <a:off x="914400" y="837720"/>
                    <a:ext cx="304812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"/>
          <p:cNvSpPr/>
          <p:nvPr/>
        </p:nvSpPr>
        <p:spPr>
          <a:xfrm>
            <a:off x="3020760" y="5294160"/>
            <a:ext cx="3373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AÑO 199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QUITO - ECUAD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380880"/>
            <a:ext cx="8305920" cy="60962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6553080" y="1143000"/>
            <a:ext cx="1760760" cy="1828800"/>
          </a:xfrm>
          <a:prstGeom prst="rect">
            <a:avLst/>
          </a:prstGeom>
          <a:ln w="0">
            <a:noFill/>
          </a:ln>
        </p:spPr>
      </p:pic>
      <p:pic>
        <p:nvPicPr>
          <p:cNvPr id="47" name="BD05773_" descr=""/>
          <p:cNvPicPr/>
          <p:nvPr/>
        </p:nvPicPr>
        <p:blipFill>
          <a:blip r:embed="rId4"/>
          <a:stretch/>
        </p:blipFill>
        <p:spPr>
          <a:xfrm flipH="1">
            <a:off x="6684840" y="3809880"/>
            <a:ext cx="1697040" cy="19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31T19:51:40Z</dcterms:created>
  <dc:creator>Estadísticas Industriales</dc:creator>
  <dc:description/>
  <dc:language>en-US</dc:language>
  <cp:lastModifiedBy>DECON</cp:lastModifiedBy>
  <dcterms:modified xsi:type="dcterms:W3CDTF">2001-02-08T13:29:58Z</dcterms:modified>
  <cp:revision>8</cp:revision>
  <dc:subject/>
  <dc:title>Sin título de diapositiva</dc:title>
</cp:coreProperties>
</file>