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6A3D-C03C-48D3-BB1D-608947E1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9484-A758-4D2F-8297-B45D60E0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24F9-7990-44B9-BAB5-6C113E68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DEFD-24CE-4FAB-9AED-5449A8BA1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49B1-CC0C-46F2-B21E-2AFB2531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1305-B4AB-42CE-879F-7071105A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7117-1B15-43F6-8B33-7AD144EF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3ACC-CC87-4662-B56E-38110EF0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E3DF-44DA-4322-94D8-603995C7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9671-933D-4915-8FE1-9C19D081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00E6-BC39-49CA-A7C3-C64CE1AA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3594-882D-4DC5-833C-00DAFDB2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BDEB-304D-418C-8B43-CF404149F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4120" y="2133720"/>
            <a:ext cx="327348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4120" y="5562720"/>
            <a:ext cx="327636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3760" y="2133720"/>
            <a:ext cx="3276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 Black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DEPARTAMENTO DE ESTADÍSTICAS INDUSTR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Arturo de la Cadena Báe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Marco Pazmiñ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ANÁLISIS DE SISTEM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Oscar Aguir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 Black"/>
              </a:rPr>
              <a:t>DIRECCIONES REGION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Diego Pazmiñ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Jorge Salaz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Ruth R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Dora Tino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IMPRE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TALLERES GRÁFICOS DEL I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685800"/>
            <a:ext cx="243828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685800"/>
            <a:ext cx="4191120" cy="5715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Jhony Cevallos Muño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SUBDIRECTOR GENERAL     SUBDIRECTOR GENERAL TÉCN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                 </a:t>
            </a: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Jorge Magaldi Sánchez                               Galo Arias Velo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AUDITOR GENE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arco Villavicencio Orti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 JURÍDI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José Patricio Ron Tor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DESARROLLO ESTADÍSTIC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Y PLANIFICACIO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Robert Sierra Rey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DE DIFUSIÓN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Hortencia Unda Proañ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RECURSOS HUMANOS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SERVICIOS ADMINISTRATIV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Rommel Illescas Trujill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FINANCIER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Gustavo Vintimilla Velas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DE ESTADÍSTIC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ECONÓMICAS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Teresa del Roció Zambrano Z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ESTADÍST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SOCIO-DEMOGRÁFICAS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áximo Ortega Galarz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INFORMÁTIC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Adriana Espinoza Mor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NOR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René Tamayo Silv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CENT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Carlos Chaquinga Mai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SUR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Guillermo Mora Palaci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LITORAL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Roberto Sáenz Ozaet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914400"/>
            <a:ext cx="1295280" cy="3808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DIREC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2133720"/>
            <a:ext cx="3048120" cy="3045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RSONAL TÉ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685800"/>
            <a:ext cx="3200400" cy="12952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38880" y="106668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AÑO 199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838080"/>
            <a:ext cx="18288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 rot="10800000">
          <a:off x="5562720" y="837720"/>
          <a:ext cx="160020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 rot="10800000">
                    <a:off x="5562720" y="837720"/>
                    <a:ext cx="1600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8T14:23:58Z</dcterms:created>
  <dc:creator>DESARROLLO DE SISTEMAS</dc:creator>
  <dc:description/>
  <dc:language>en-US</dc:language>
  <cp:lastModifiedBy>mpazmino</cp:lastModifiedBy>
  <cp:lastPrinted>2001-01-30T18:59:46Z</cp:lastPrinted>
  <dcterms:modified xsi:type="dcterms:W3CDTF">2003-12-08T16:36:02Z</dcterms:modified>
  <cp:revision>42</cp:revision>
  <dc:subject/>
  <dc:title>Sin título de diapositiva</dc:title>
</cp:coreProperties>
</file>