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7731-7A70-4CC6-8DD0-85A45BDB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BA5-5E94-46EB-921C-52D47BA3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93D-9B56-4CE5-8064-815C5085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25F-4E51-43B0-A7E3-C9D0FE42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EF4-6C36-423B-86C8-F6B6C378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CFC-5845-44AF-8B56-AC31CE08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976-7DC9-41CE-8212-5B497A74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F0E-E31B-4FC4-9ED7-EB33B203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87C-3394-4712-B508-6F0AC684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3A0-0A4A-448F-B28A-A577F57B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87B-34E3-41E1-AEF6-E98A8758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866-DE7D-4462-B29D-D53FDC00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3334-9704-4250-B613-F34D0E58C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O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EPARTAMENTO DE ESTADISTICAS INDUST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Arturo de la Cadena B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Marco Pazmiñ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A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scar Aguir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Geoconda Ocam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iego Pazmi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orge Salaz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Marisol Gonzále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ora Tino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TALLERES GRAFICOS DEL I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ohny Cevallos Muño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UBDIRECTOR GENERAL     SUBDIRECTOR GENERAL TE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orge Magaldi Sánchez                               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JURIDICA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Flavia Racines Carr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ESARROLLO ESTADISTIC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Y PLANIFICACIO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Fabián Santacruz Guzmá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DIFUSION ESTADI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Hortencia Unda Proañ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RECURSOS HUMAN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ERVICIOS ADMINISTRATIV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mmel Illescas Truji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FINANCI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ustavo Vintimilla Vel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ESTADIST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CONOM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cío Zambrano Zambra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ESTADIST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OCIO-DEMOGRAF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áximo Ortega Galar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INFORMAT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driana Espinoza M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bert Sierra Rey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arlos Chaquinga Mai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S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uillermo Mora Palaci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LITORAL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berto Sáenz Ozae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914400"/>
            <a:ext cx="1295280" cy="380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E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8880" y="10666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 rot="10800000">
          <a:off x="5562720" y="837720"/>
          <a:ext cx="1600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5562720" y="837720"/>
                    <a:ext cx="160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mpazmino</cp:lastModifiedBy>
  <cp:lastPrinted>2001-01-30T18:59:46Z</cp:lastPrinted>
  <dcterms:modified xsi:type="dcterms:W3CDTF">2003-12-09T14:20:04Z</dcterms:modified>
  <cp:revision>39</cp:revision>
  <dc:subject/>
  <dc:title>Sin título de diapositiva</dc:title>
</cp:coreProperties>
</file>