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C85E-48BE-40A1-9303-5AF3C5F3F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2119-89B2-480A-B287-194794988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94C1-2A34-40EA-931B-3C90CED9D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D8F4-744B-44BF-B095-9635ECA9A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028B-BC24-40A4-A4AB-864764CCE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C772-2BA2-4798-8B16-EE458E3CD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0EA9-A378-44B8-8BE2-7D5498165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560B-E432-4B53-9469-75722CF7A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78C8-B264-4136-861D-C24E40B1B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7FD5-7A06-4176-B62F-423616462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B638-EFD6-4D85-9B8D-EB709E9CC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D90A-2A96-48D2-9160-17FE6C6E4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24067-4980-4502-84CA-2AF9DAFE42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90720" y="2575080"/>
            <a:ext cx="472428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NCUESTA ANUAL DE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OTELES RESTAURANTE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Y SERVICIO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42" name=""/>
          <p:cNvGraphicFramePr/>
          <p:nvPr/>
        </p:nvGraphicFramePr>
        <p:xfrm rot="10800000">
          <a:off x="914400" y="837720"/>
          <a:ext cx="3048120" cy="9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 rot="10800000">
                    <a:off x="914400" y="837720"/>
                    <a:ext cx="30481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3020760" y="5294160"/>
            <a:ext cx="337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AÑO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QUITO - ECU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380880"/>
            <a:ext cx="8305920" cy="60962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553080" y="1143000"/>
            <a:ext cx="1760760" cy="1828800"/>
          </a:xfrm>
          <a:prstGeom prst="rect">
            <a:avLst/>
          </a:prstGeom>
          <a:ln w="0">
            <a:noFill/>
          </a:ln>
        </p:spPr>
      </p:pic>
      <p:pic>
        <p:nvPicPr>
          <p:cNvPr id="47" name="BD05773_" descr=""/>
          <p:cNvPicPr/>
          <p:nvPr/>
        </p:nvPicPr>
        <p:blipFill>
          <a:blip r:embed="rId4"/>
          <a:stretch/>
        </p:blipFill>
        <p:spPr>
          <a:xfrm flipH="1">
            <a:off x="6684840" y="3809880"/>
            <a:ext cx="1697040" cy="19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31T19:51:40Z</dcterms:created>
  <dc:creator>Estadísticas Industriales</dc:creator>
  <dc:description/>
  <dc:language>en-US</dc:language>
  <cp:lastModifiedBy>INEC</cp:lastModifiedBy>
  <dcterms:modified xsi:type="dcterms:W3CDTF">2001-11-06T16:02:55Z</dcterms:modified>
  <cp:revision>9</cp:revision>
  <dc:subject/>
  <dc:title>Sin título de diapositiva</dc:title>
</cp:coreProperties>
</file>