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343A-60D7-4C27-9704-71091C7D3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2C75-C38C-4CB1-B6AC-26EE51C43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CE0D-1F78-4417-BC20-46D1CDBBC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1744-222B-4576-9024-CD59422B5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47C4-9DB1-46CC-B30A-E180CB27B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B638-E923-4D31-B22A-B3797F3E1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04ED-E24D-4988-BFB7-AF0E5782A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2B01-298C-4343-B1C5-CA8BF800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7399-EA35-4E49-8FE7-DF047483E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8CA5-78F2-42F0-A4F2-23A35D10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7B71-8473-443D-B18A-9F73DA33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7F51-3F34-4DD4-8A8E-2201D093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BE45D-60BA-438B-946C-1F1AA55482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4120" y="2133720"/>
            <a:ext cx="3273480" cy="3200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4120" y="5562720"/>
            <a:ext cx="327636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333760" y="2133720"/>
            <a:ext cx="32763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000000"/>
                </a:solidFill>
                <a:uFillTx/>
                <a:latin typeface="Arial Black"/>
              </a:rPr>
              <a:t>ADMINISTRACIÓN CENT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 Black"/>
              </a:rPr>
              <a:t>DEPARTAMENTO DE ESTADÍSTICAS INDUSTRI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Jaime Cevallo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 Black"/>
              </a:rPr>
              <a:t>Marco Pazmiñ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 Black"/>
              </a:rPr>
              <a:t>ANÁLISIS DE SISTEM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Oscar Aguir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Geoconda Ocamp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000000"/>
                </a:solidFill>
                <a:uFillTx/>
                <a:latin typeface="Arial Black"/>
              </a:rPr>
              <a:t>DIRECCIONES REGION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Santiago Agu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Jorge Salaz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Marisol González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Dora Tino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Black"/>
              </a:rPr>
              <a:t>IMPRES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Black"/>
              </a:rPr>
              <a:t>TALLERES GRÁFICOS DEL I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685800"/>
            <a:ext cx="243828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685800"/>
            <a:ext cx="4191120" cy="5715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 Black"/>
              </a:rPr>
              <a:t>DIRECTOR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Víctor Manuel Escobar P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Black"/>
              </a:rPr>
              <a:t>          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SUBDIRECTOR GENERAL     SUBDIRECTOR GENERAL TÉCN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                 </a:t>
            </a: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Jorge Magaldi Sánchez                               Galo Arias Veloz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AUDITOR GENER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Marco Villavicencio Ortiz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A DE ASUNTOS JURÍDICOS (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Flavia Racines Carrasc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DE DESARROLLO ESTADÍSTICO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Y PLANIFICACIO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Milton Naranjo R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DE DIFUSIÓN ESTADÍSTIC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Alexis Pérez Niet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DE RECURSOS HUMANOS Y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SERVICIOS ADMINISTRATIVO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César Fierro Ca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FINANCIERO (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Orlando Narváez Enríquez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DE ESTADÍSTICA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ECONÓMICAS (E)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Arturo de la Cadena B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A DE ESTADÍSTIC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SOCIO-DEMOGRÁFICAS (E)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Pilar Ortiz Mejí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DE INFORMÁTIC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Carlos Calispa Pedraz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REGIONAL DEL NOR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Edwin Fuertes López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REGIONAL DEL CENTR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Fernando Sandov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REGIONAL DEL SUR (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Oswaldo Uyaguari Quezad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REGIONAL DEL LITORAL (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Roberto Sáenz Ozaett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914400"/>
            <a:ext cx="1295280" cy="3808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DIRECTO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86400" y="2133720"/>
            <a:ext cx="3048120" cy="30456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PERSONAL TÉCNICO RESPONS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4120" y="685800"/>
            <a:ext cx="3200400" cy="129528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238880" y="1066680"/>
            <a:ext cx="12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Black"/>
              </a:rPr>
              <a:t>AÑO 200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838080"/>
            <a:ext cx="1828800" cy="533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 rot="10800000">
          <a:off x="5562720" y="837720"/>
          <a:ext cx="1600200" cy="99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 rot="10800000">
                    <a:off x="5562720" y="837720"/>
                    <a:ext cx="16002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8T14:23:58Z</dcterms:created>
  <dc:creator>DESARROLLO DE SISTEMAS</dc:creator>
  <dc:description/>
  <dc:language>en-US</dc:language>
  <cp:lastModifiedBy>mpazmino</cp:lastModifiedBy>
  <cp:lastPrinted>2001-01-30T18:59:46Z</cp:lastPrinted>
  <dcterms:modified xsi:type="dcterms:W3CDTF">2003-11-10T18:36:30Z</dcterms:modified>
  <cp:revision>42</cp:revision>
  <dc:subject/>
  <dc:title>Sin título de diapositiva</dc:title>
</cp:coreProperties>
</file>