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B86-013E-47A6-9BB4-1B837E17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16A1-0D29-4047-AD6B-F84DBA17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54B-1E55-46F2-9256-BEC90ACB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BE4-8B2A-475C-B480-A4AE861A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98B-9E59-4EF1-91EE-A455A9D0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01E-2086-40A5-85D4-40004408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38A-19AC-4AC2-8908-27572705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51E-D0C1-4787-8F09-0AD7C2B0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2C7E-A9FB-4536-A88C-FCF43670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C46D-033D-4100-8811-BEF41FFD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7B12-5438-413E-B62C-8DA71318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1C6B-761F-40EF-BF54-8424A540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DC60-D892-4261-9968-19E5F1164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295280"/>
            <a:ext cx="4724280" cy="5257800"/>
          </a:xfrm>
          <a:custGeom>
            <a:avLst/>
            <a:gdLst>
              <a:gd name="textAreaLeft" fmla="*/ 230400 w 4724280"/>
              <a:gd name="textAreaRight" fmla="*/ 4493880 w 4724280"/>
              <a:gd name="textAreaTop" fmla="*/ 230400 h 5257800"/>
              <a:gd name="textAreaBottom" fmla="*/ 5027400 h 5257800"/>
            </a:gdLst>
            <a:ahLst/>
            <a:rect l="textAreaLeft" t="textAreaTop" r="textAreaRight" b="textAreaBottom"/>
            <a:pathLst>
              <a:path w="21600" h="24039">
                <a:moveTo>
                  <a:pt x="3600" y="0"/>
                </a:moveTo>
                <a:arcTo wR="3600" hR="3600" stAng="16200000" swAng="-5400000"/>
                <a:lnTo>
                  <a:pt x="0" y="20439"/>
                </a:lnTo>
                <a:arcTo wR="3600" hR="3600" stAng="10800000" swAng="-5400000"/>
                <a:lnTo>
                  <a:pt x="18000" y="240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137016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REC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828800"/>
            <a:ext cx="426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IRECTOR GENERAL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ohny Cevallos Muñoz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2209680"/>
            <a:ext cx="228600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DIRECTORA DE ASUNTOS JURICOS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Flavia Racines Carr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DIRECTOR DE DESARROLLO ESTADIST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Y PLANIFICAC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Fabián Santacruz Guzmá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DIRECTORA DE DIFUSION ESTADI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Hortencia Unda Proañ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DIRECTOR DE RECURSOS HUMANOS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SERVICIOS ADMINISTRATIV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Rommel Illescas Trujil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DIRECTOR FINANCI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Gustavo Vintimilla Vel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DIRECTORA DE ESTADISTICAS ECONOM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Rocío Zambrano Zambra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DIRECTOR DE ESTADISTICAS  SOCIO-DEMOGRAF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Máximo Ortega Galarz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DIRECTORA DE INFORMA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Adriana Espinoza Mo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DIRECTOR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Robert Sierra Reyes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DIRECTOR REGIONAL DEL CENT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Carlos Chaquinga Mai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DIRECTOR REGIONAL DEL S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Guillermo Mora Palaci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Times New Roman"/>
              </a:rPr>
              <a:t>DIRECTOR REGIONAL DEL LITORAL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Times New Roman"/>
              </a:rPr>
              <a:t>Roberto Sáenz Ozaet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28600"/>
            <a:ext cx="853452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 rot="10800000">
          <a:off x="914400" y="380520"/>
          <a:ext cx="12193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 rot="10800000">
                    <a:off x="914400" y="380520"/>
                    <a:ext cx="1219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6324480" y="380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lbertus Medium"/>
              </a:rPr>
              <a:t>AÑO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371600"/>
            <a:ext cx="2971800" cy="335268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352680"/>
              <a:gd name="textAreaBottom" fmla="*/ 3207600 h 3352680"/>
            </a:gdLst>
            <a:ahLst/>
            <a:rect l="textAreaLeft" t="textAreaTop" r="textAreaRight" b="textAreaBottom"/>
            <a:pathLst>
              <a:path w="21600" h="24368">
                <a:moveTo>
                  <a:pt x="3600" y="0"/>
                </a:moveTo>
                <a:arcTo wR="3600" hR="3600" stAng="16200000" swAng="-5400000"/>
                <a:lnTo>
                  <a:pt x="0" y="20768"/>
                </a:lnTo>
                <a:arcTo wR="3600" hR="3600" stAng="10800000" swAng="-5400000"/>
                <a:lnTo>
                  <a:pt x="18000" y="243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46640" y="1600200"/>
            <a:ext cx="237348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lbertus Medium"/>
              </a:rPr>
              <a:t>PERSONAL TECNICO RESPON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lbertus Medium"/>
              </a:rPr>
              <a:t>ADMINISTRACIO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lbertus Medium"/>
              </a:rPr>
              <a:t>DEPARTAMENTO DE ESTADIS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lbertus Medium"/>
              </a:rPr>
              <a:t>INDUST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turo de la Cadena           Marco Pazmiñ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lbertus Medium"/>
              </a:rPr>
              <a:t>ANALISIS DE SISTE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conda Ocam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952880"/>
            <a:ext cx="2819520" cy="152424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35880" y="5216400"/>
            <a:ext cx="137088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lbertus Medium"/>
              </a:rPr>
              <a:t>IMPR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lbertus Medium"/>
              </a:rPr>
              <a:t>TALLERES GRÁF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5400"/>
            <a:ext cx="4419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UBDIRECTOR GENERAL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SUBDIRECTOR GENERAL TECN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rge Magaldi Sánchez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Galo Arias Velo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60680" y="3794040"/>
            <a:ext cx="19468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 u="sng">
                <a:solidFill>
                  <a:srgbClr val="000000"/>
                </a:solidFill>
                <a:uFillTx/>
                <a:latin typeface="Times New Roman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lbertus Medium"/>
              </a:rPr>
              <a:t>Diego Pazmiño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lbertus Medium"/>
              </a:rPr>
              <a:t>Jorge Salaz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lbertus Medium"/>
              </a:rPr>
              <a:t>Marisol Gonzal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lbertus Medium"/>
              </a:rPr>
              <a:t>Dora Tino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7:50:44Z</dcterms:created>
  <dc:creator>Estadísticas Industriales</dc:creator>
  <dc:description/>
  <dc:language>en-US</dc:language>
  <cp:lastModifiedBy>INEC</cp:lastModifiedBy>
  <cp:lastPrinted>1999-08-24T16:17:00Z</cp:lastPrinted>
  <dcterms:modified xsi:type="dcterms:W3CDTF">2003-09-17T13:27:38Z</dcterms:modified>
  <cp:revision>23</cp:revision>
  <dc:subject/>
  <dc:title>Sin título de diapositiva</dc:title>
</cp:coreProperties>
</file>