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4F9-6D45-41C3-BF27-58381C07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F1A-E247-4020-907C-CFB62B2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279-727D-486B-83CF-6BF47D41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FA3-B39E-421F-9FDE-42DBE4FE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547-F865-447A-AD3D-DAB1DE38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905-4619-4DC2-A345-D2E78A2D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754-EEA8-4B14-9C78-98D3EC6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8D4-B266-4F48-9EE7-7FDFDA4C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877-D622-4458-B80A-53C518DB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E92-998D-43B8-8285-635C838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204-DF89-4B15-8A89-50AB50C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C97-7FFE-4A92-96D3-8B745F5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5C87-CA47-40E1-87CC-42633EB9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" name=""/>
          <p:cNvGraphicFramePr/>
          <p:nvPr/>
        </p:nvGraphicFramePr>
        <p:xfrm rot="10800000">
          <a:off x="914400" y="837720"/>
          <a:ext cx="304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914400" y="83772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BD05773_" descr=""/>
          <p:cNvPicPr/>
          <p:nvPr/>
        </p:nvPicPr>
        <p:blipFill>
          <a:blip r:embed="rId4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mpazmino</cp:lastModifiedBy>
  <dcterms:modified xsi:type="dcterms:W3CDTF">2003-11-10T18:35:58Z</dcterms:modified>
  <cp:revision>11</cp:revision>
  <dc:subject/>
  <dc:title>Sin título de diapositiva</dc:title>
</cp:coreProperties>
</file>