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7A1-A528-4FF6-86FB-D0D4DB8E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7FC-103B-4119-8092-E6FEBEE0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E28-4E6A-4B8A-A80F-281E4C44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D05-297E-4C92-87CC-031098EE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807-304B-41A0-B76B-CD510F29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C5A-4F9C-42AE-95F4-33CC0EE0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45F-00F7-495C-8E96-A2D7AF19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66C-8253-4FF5-828B-0C61061C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C6A-8233-4B1E-B0FF-B4ECEA37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07B-658C-4653-A0DF-191CE04D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69C-3C3F-4E7C-9729-FCD59057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EE3-B2CF-41DE-99B8-2972C7F5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55FC-1CDC-492B-AD5E-E9A0D59F8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Í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ime Cevall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Marco Pazmiñ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Geoconda Ocam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antiago Agu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Luis Muril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Vinicio Orti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antiago Abr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Víctor Manuel Escobar B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ASUNTOS JURÍDICO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Í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ilton Naranjo 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IFUSIÓN ESTADÍSTICA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Luis Guadalupe Cast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ésar Fierro C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rlando Narváez Enrí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ÓMICAS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ÁFICAS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talin Ramos Alvarad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INFORMÁ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Calispa Pedra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dwin Fuertes Lóp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ernando Sandov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REGIONAL DEL SU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na Gabriela Jimén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pazmino</cp:lastModifiedBy>
  <cp:lastPrinted>2001-01-30T18:59:46Z</cp:lastPrinted>
  <dcterms:modified xsi:type="dcterms:W3CDTF">2004-01-20T14:18:46Z</dcterms:modified>
  <cp:revision>49</cp:revision>
  <dc:subject/>
  <dc:title>Sin título de diapositiva</dc:title>
</cp:coreProperties>
</file>