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3B2-C0C5-4CA9-9BF8-E51AC636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726-BFDD-4E1D-95F1-0098175F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422-EEC9-49E1-85A2-1A1075D9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F77-6497-4426-A3CA-AD04D6E4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FC0-A3FE-4BCD-B0C5-F6BDC3C2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DA2-72EB-47E8-911D-81799AC2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599-3CB7-43B4-95F7-87AC6698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A5E-0BAB-4D84-B995-942FC63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027-BF36-4FB5-B892-ECDDD384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A01-A36E-4943-BAFD-3910D104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335-5D20-4C55-9F25-64C87E98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B89-0D3F-4F2B-92CB-A3C3BCB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4708-08C7-44AB-A619-5C59CB09543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575080"/>
            <a:ext cx="4724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UESTA ANUAL 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TELES RESTAURANT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SERVICIO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2" name=""/>
          <p:cNvGraphicFramePr/>
          <p:nvPr/>
        </p:nvGraphicFramePr>
        <p:xfrm rot="10800000">
          <a:off x="914400" y="837720"/>
          <a:ext cx="3048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914400" y="837720"/>
                    <a:ext cx="3048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20760" y="5294160"/>
            <a:ext cx="33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ÑO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QUITO - 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17607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BD05773_" descr=""/>
          <p:cNvPicPr/>
          <p:nvPr/>
        </p:nvPicPr>
        <p:blipFill>
          <a:blip r:embed="rId4"/>
          <a:stretch/>
        </p:blipFill>
        <p:spPr>
          <a:xfrm flipH="1">
            <a:off x="6684840" y="3809880"/>
            <a:ext cx="16970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9:51:40Z</dcterms:created>
  <dc:creator>Estadísticas Industriales</dc:creator>
  <dc:description/>
  <dc:language>en-US</dc:language>
  <cp:lastModifiedBy>mpazmino</cp:lastModifiedBy>
  <dcterms:modified xsi:type="dcterms:W3CDTF">2004-01-05T15:13:47Z</dcterms:modified>
  <cp:revision>13</cp:revision>
  <dc:subject/>
  <dc:title>Sin título de diapositiva</dc:title>
</cp:coreProperties>
</file>