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5AE-7F2F-4E2F-BD56-A67B2D9F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FEF-9F09-4782-A0E3-A275D3B4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255-EA76-4911-B031-421EDB96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24C-545A-4BE7-A008-F8FB15C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91F-596A-4953-8176-83F363A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C52-EBEC-4771-8B38-708BEB91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037-A574-4AEF-9E8B-9921B10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48B-B4CC-4D60-A446-D6BC315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9AA-2C4B-477A-A272-32148E4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961-B1AD-475E-9AFC-05E0BE0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9DF-28E0-48F9-8B93-2D40128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09A-F4E0-4680-AE73-1B63A91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F69-0064-47F4-80FF-31DCD576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Jaime Cevall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Marco Pazmiñ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Luis Alfredo Carrillo Jaram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yriam Soledad Peñafiel Ullau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ASEGURAMIENTO DE LA CALIDAD DE GESTIÒ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íctor Manuel Guanolu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JURID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ORDINADOR DE COMUNICACIÒN Y DIFUSIÒN ESTADÌST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erónica Patricia Benalcázar Ro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GESTIÒN DE LA PRODUCCIÒN ESTADÌ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 Córdo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GESTIÒN DEL ANÀLISIS ESTADÌST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andra Elizabeth Sarango Loacham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GESTIÒN DE DESARROLLO TECNOLÒGICO ESTADÌ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elo Ruano Chamor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ÒN DE DESARROLLO ORGANIZA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Ramiro Sandoval Villar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ÒN DE RECURSOS FINANCIER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PROCESOS DESCONCENTR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afael Emilio Valdez Reque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ackson Armando Villota 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NORTE (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Aníbal Sandoval Mol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Katty Alexandra Andrade Laz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S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969880" y="5638680"/>
            <a:ext cx="223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 Black"/>
              </a:rPr>
              <a:t>EDICIÒ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COMUNICACIÒN Y DIFUSIÒN ESTADÌ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 Black"/>
              </a:rPr>
              <a:t>IMPRESIÒ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TALLERES GRÀFICOS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5-01-11T16:53:28Z</dcterms:modified>
  <cp:revision>60</cp:revision>
  <dc:subject/>
  <dc:title>Sin título de diapositiva</dc:title>
</cp:coreProperties>
</file>