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66432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A5FF-21E1-4FCE-9FA9-D008C47F9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3D44-46D5-487C-9280-365081648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7F7B-B0CB-479C-9C46-66A3E0A21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EEC0-621D-46FE-A454-AB44454D5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636D-5B15-4B97-90A7-13BEEFF45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7473-F0B7-4F8E-9E20-EC012FDF8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1DE6-E5C6-4069-ACF3-E584B118F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CE96-4302-4DA2-8373-879F40D99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835A-E435-4841-815F-344961EE3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370D-765E-4DCD-B0DD-34B3751EA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3013-0B2E-45B9-AB9E-208594A0C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BF55-D1B0-4B5F-824E-14D7CF04A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AE5F9-2C81-4F6B-AF7A-F016FBC88B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oleObject" Target="../embeddings/oleObject1.bin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4120" y="2133720"/>
            <a:ext cx="3273480" cy="3200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334120" y="5562720"/>
            <a:ext cx="327636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5333760" y="2133720"/>
            <a:ext cx="327636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 u="sng">
                <a:solidFill>
                  <a:srgbClr val="000000"/>
                </a:solidFill>
                <a:uFillTx/>
                <a:latin typeface="Arial Black"/>
              </a:rPr>
              <a:t>ADMINISTRACION CENTR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 Black"/>
              </a:rPr>
              <a:t>SISTEMA ESTADISTICAS ECONOMIC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 Black"/>
              </a:rPr>
              <a:t>Arturo De La Cadena Báe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 algn="ctr">
              <a:lnSpc>
                <a:spcPct val="75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 Black"/>
              </a:rPr>
              <a:t>Pablo Marcelo Loza Cevallo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 Black"/>
              </a:rPr>
              <a:t>ANALISIS DE SISTEM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 Black"/>
              </a:rPr>
              <a:t>Blanca Almach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 u="sng">
                <a:solidFill>
                  <a:srgbClr val="000000"/>
                </a:solidFill>
                <a:uFillTx/>
                <a:latin typeface="Arial Black"/>
              </a:rPr>
              <a:t>OPERACIONALIZAC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 Black"/>
              </a:rPr>
              <a:t>Regional del Norte:      Francisco Camach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 Black"/>
              </a:rPr>
              <a:t>Regional del Litoral:              Jorge Salaz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 Black"/>
              </a:rPr>
              <a:t>Regional del Sur:              Marisol Gonzále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 Black"/>
              </a:rPr>
              <a:t>Regional del Centro:                Dora Tino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 algn="ctr">
              <a:lnSpc>
                <a:spcPct val="75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 algn="ctr">
              <a:lnSpc>
                <a:spcPct val="75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 Black"/>
              </a:rPr>
              <a:t>EDI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COMUNICACIÓN Y DIFUSIÓN ESTADÍSTIC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 Black"/>
              </a:rPr>
              <a:t>IMPRES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TALLERES GRÁFICOS DEL INE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685800"/>
            <a:ext cx="2438280" cy="56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685800"/>
            <a:ext cx="4191120" cy="5715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Jorge Magaldi Sanchez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Black"/>
              </a:rPr>
              <a:t>DIRECTOR GENERAL, SUBROGA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Milton Altuna</a:t>
            </a:r>
            <a:r>
              <a:rPr b="0" lang="es-ES_tradnl" sz="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Hidalgo   </a:t>
            </a:r>
            <a:r>
              <a:rPr b="0" lang="es-ES_tradnl" sz="800" spc="-1" strike="noStrike">
                <a:solidFill>
                  <a:srgbClr val="000000"/>
                </a:solidFill>
                <a:latin typeface="Arial Black"/>
              </a:rPr>
              <a:t>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DIRECTOR TECNICO DE ASEGURAMIENTO DE LA CALIDAD</a:t>
            </a:r>
            <a:r>
              <a:rPr b="1" lang="es-ES_tradnl" sz="7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DE GESTIÓN        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Giovani Guerra Corre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DIRECTOR  TECNICO JURIDIC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Marco Vinicio Villavicencio Ortiz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AUDITOR GENER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Luis Guadalupe Castillo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COORDINADOR DE COMUNICACIÓN SOCI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Galo Arias Veloz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DIRECTOR DE GESTIÓN DE PRODUCCIÓN ESTADÍSTIC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Maria Soledad Carvajal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DIRECTORA TECNICA DE GESTIÓN DE ANÁLISIS ESTADÍSTICO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Carlos Obando Revel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DIRECTOR DE TECNICO DE GESTIÓN DE DESARROLLO TECNOLÓGICO ESTADÍSTIC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Patricio López Toromoreno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DIRECTOR DE RECURSOS HUMANOS Y SERVICIOS ADMINISTRATIVO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Orlando Ramiro Narváez Enríquez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DIRECTOR TECNICO DE GESTIÓN DE RECURSOS FINANCIERO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PROCESOS A NIVEL REGION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Roberto Sáenz Ozaett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DIRECTOR REGIONAL DEL LITOR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Walter Villafuer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DIRECTOR REGIONAL DEL NORTE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Graciela Moncayo Núñez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DIRECTORA REGIONAL DEL CENTR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Oswaldo Uyaguari Quezad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DIRECTORA REGIONAL DEL SUR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0" y="1066680"/>
            <a:ext cx="1295280" cy="38124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DIRECTORI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486400" y="2133720"/>
            <a:ext cx="3048120" cy="30456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PERSONAL TECNICO RESPONS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4120" y="685800"/>
            <a:ext cx="3200400" cy="129528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238880" y="1066680"/>
            <a:ext cx="129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Black"/>
              </a:rPr>
              <a:t>AÑO 200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057400" y="838080"/>
            <a:ext cx="1828800" cy="533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 rot="10800000">
          <a:off x="5562720" y="837720"/>
          <a:ext cx="1600200" cy="990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 rot="10800000">
                    <a:off x="5562720" y="837720"/>
                    <a:ext cx="16002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loza</cp:lastModifiedBy>
  <dcterms:modified xsi:type="dcterms:W3CDTF">2006-01-27T15:32:14Z</dcterms:modified>
  <cp:revision>17</cp:revision>
  <dc:subject/>
  <dc:title>Presentación de PowerPoint</dc:title>
</cp:coreProperties>
</file>