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7E0-B57C-40BC-920C-A0009CA0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76A-44E4-409F-97AF-8E10A52A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B5F-02BD-4FDA-A369-055F3437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134-946E-4176-B5DF-4AEFFA07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7AF-A52A-4131-BB66-7E7AB2B1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268-0882-4518-8291-311A086D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2D8-3B03-4640-99D6-39A1E305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8DC-F84A-4160-9310-359882E6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F6A-8C15-4C5E-A647-49ADB544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733-BE85-4E00-95B1-E91A42D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89F-F64D-4788-A013-16BCD1A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B9C-2D83-43DC-A2B0-5B20ADB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F79B-9D0F-4BE5-9DB9-215E535F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575080"/>
            <a:ext cx="4724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UESTA ANUAL 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TELES, RESTAURANT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SERVICIO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020760" y="5294160"/>
            <a:ext cx="33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ÑO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ITO - 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176076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>
            <a:off x="6684840" y="3809880"/>
            <a:ext cx="1697040" cy="196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58920" y="907920"/>
            <a:ext cx="2449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9:51:40Z</dcterms:created>
  <dc:creator>Estadísticas Industriales</dc:creator>
  <dc:description/>
  <dc:language>en-US</dc:language>
  <cp:lastModifiedBy>jpazmino</cp:lastModifiedBy>
  <dcterms:modified xsi:type="dcterms:W3CDTF">2008-01-16T16:27:04Z</dcterms:modified>
  <cp:revision>19</cp:revision>
  <dc:subject/>
  <dc:title>Sin título de diapositiva</dc:title>
</cp:coreProperties>
</file>