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335713" cy="9471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B63-B245-4FB9-B6FD-907E7A0F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8CE-3A8C-474E-BB69-5ED0A68A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90E-CDD6-4835-8197-EB75788A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F40-5099-47C7-83AA-CA39AE13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65F-9DD4-463F-870D-51360B25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511-3C60-42E2-B313-B4665FD2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CFC-D405-454A-9DB4-1AFC87F2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574-D5D1-4A6D-B941-2F12AF8A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89A-91DE-4C76-A9B5-3A23E5E1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183-E512-48ED-BCCF-94D77695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32E-10F5-48DA-A4BA-53639F3D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6B5-987C-470E-888F-FB880351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ADBF-31E0-4BCF-A0C9-84D21D1F4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proceso de Estadísticas Estructurales de Empresas 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Establecimientos Económ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Marco Pazmiño G.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Blanca Almach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 Black"/>
              </a:rPr>
              <a:t>OPERACIONALIZACIÒ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Regional del Norte: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Armando Gallar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Regional del Litoral: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Luis Muril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Regional del Sur: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Luis Dí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Regional del centro: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Carlos Carva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Byron Villacís Cru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avid Vera Alcív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GESTIÓN ESTRATÉGICA INSTITUC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ésar Zanafria Niquing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ASESORÍA JURÍD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laudio Gallardo Le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PLANIFICACIÓ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AUDITOR INTER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uth Puyol Cord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DE RECURSOS HUMAN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Y SERVICIOS ADMINISTRATIV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Hugo Freire Almei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RECURSOS FINANCIE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alo Arias Velo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PRODUCCIÓN ESTADÍSTICAS ECONÓ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Julio Ortega Andra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PRODUC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ESTADÍSTICAS SOCIODEMOGRÁF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ssman Camacho Carrión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DESARROL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TECNOLÓGICO ESTADÍSTIC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PROCESOS A NIVEL REG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José Castro Carr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avid Manosalvas Vinue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NORT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Jorge García Guerrer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drigo Miguel Segarra Aguir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SU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066680"/>
            <a:ext cx="27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ÑO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5734080"/>
            <a:ext cx="129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EDIC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COMUNICAC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 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SOCIAL                                                                                                             Y RELACIONES PÚBL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IMPRES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IMPRENTA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DEL INE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5589720"/>
            <a:ext cx="1655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jpazmino</cp:lastModifiedBy>
  <cp:lastPrinted>2001-01-30T18:59:46Z</cp:lastPrinted>
  <dcterms:modified xsi:type="dcterms:W3CDTF">2008-01-23T15:09:06Z</dcterms:modified>
  <cp:revision>92</cp:revision>
  <dc:subject/>
  <dc:title>Sin título de diapositiva</dc:title>
</cp:coreProperties>
</file>