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335713" cy="9471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377-2F28-40A3-9874-1BD57D8A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C16-32F4-4C52-8168-862DD450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EB1-4245-4543-A7EA-C28EBB18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6E3-DD0D-4D08-AD40-1B2C45FE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170-7E61-4D67-83B4-90BC0B5A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713-DD7C-4088-82CB-83EFDD81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C6A-7463-4E54-93C3-387F9054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A93-927D-42E2-B27E-480CE614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2AD-595C-4B60-87D2-BC70B4D2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04D-9D66-4D94-B11E-3349D9E7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4FE-1101-47C8-AD47-EF40BB55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E90-AE18-48B1-A723-87E3108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48F5-9286-4D0E-AD00-C43A8F273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proceso de Estadísticas Estructurales de Empresas 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stablecimientos Económ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Marco Pazmiño G.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Blanca Almac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Ò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Regional del Norte: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Armando Gallar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Regional del Litoral: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Luis Muril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Regional del Sur: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Luis Dí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Regional del centro: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Carlos Carva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Byron Villacís Cru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avid Vera Alcív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GESTIÓN ESTRATÉGICA INSTITUC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ésar Zanafria Niquin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ASESORÍA JURÍ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laudio Gallardo Le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PLANIFICACIÓ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uth Puyol Cord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RECURSOS HUMAN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Y SERVICIOS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Hugo Freire Alme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alo Arias Velo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PRODUCCIÓN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Julio Ortega Andra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PRODUC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ssman Camacho Carrión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DESARROL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TECNOLÓGICO ESTADÍSTIC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José Castro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avid Manosalvas Vinue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NORT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Jorge García Guerre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drigo Miguel Segarra Aguir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SU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66680"/>
            <a:ext cx="27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ÑO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5734080"/>
            <a:ext cx="129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EDI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COMUNICA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SOCIAL                                                                                                             Y RELACIONES PÚBL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IMPRES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IMPRENTA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DEL INE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1655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jpazmino</cp:lastModifiedBy>
  <cp:lastPrinted>2001-01-30T18:59:46Z</cp:lastPrinted>
  <dcterms:modified xsi:type="dcterms:W3CDTF">2008-01-23T15:09:06Z</dcterms:modified>
  <cp:revision>92</cp:revision>
  <dc:subject/>
  <dc:title>Sin título de diapositiva</dc:title>
</cp:coreProperties>
</file>