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67A-0A9C-4228-9B5A-CE23DEF2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3A4-C300-420F-8A3D-E281D99C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BBF-F4F3-45C4-8737-89B28CD4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1EA-BB95-4ECC-9AC7-B8CD39F0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FA0-07FE-4DCF-8B92-F1E0258C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D07-A81F-42A0-8476-E9D07F25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F0E-63ED-4B2D-960C-6AD21DAF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235-468D-48EC-8F1F-FBA68625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754-AE47-4A66-99FC-0A9A3F4D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EF4-A236-4F1C-A33F-E51D3F71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C54-0C5F-45BF-A3B0-8804FC09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339-DD7F-4E6C-9715-6F65239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332-6FEC-41B9-A896-602C1D060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575080"/>
            <a:ext cx="4724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UESTA ANUAL 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TELES, RESTAURANT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SERVICIO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020760" y="5294160"/>
            <a:ext cx="33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ÑO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QUITO - 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176076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>
            <a:off x="6684840" y="3809880"/>
            <a:ext cx="1697040" cy="196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58920" y="907920"/>
            <a:ext cx="24494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9:51:40Z</dcterms:created>
  <dc:creator>Estadísticas Industriales</dc:creator>
  <dc:description/>
  <dc:language>en-US</dc:language>
  <cp:lastModifiedBy>jpazmino</cp:lastModifiedBy>
  <dcterms:modified xsi:type="dcterms:W3CDTF">2008-01-16T16:27:04Z</dcterms:modified>
  <cp:revision>19</cp:revision>
  <dc:subject/>
  <dc:title>Sin título de diapositiva</dc:title>
</cp:coreProperties>
</file>