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74D-061D-4193-B3D1-835164D7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A60-CFA6-42F8-87E2-58362FC3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30E-2ABE-45A4-A4D4-8E038DCD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771-0278-41A2-839E-001B12C2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BA9-C4CE-438C-A5E2-13E468F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24E-B2BF-4614-9AC2-AA64F7DA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94E-13B7-4587-8AED-5E61AEAB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854-07D6-460D-A5F3-E042C73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DBE-B864-4675-9E80-14233EF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D22-0A31-4596-8F02-474D037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B2A-50FD-46AD-BFB8-A9133E3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370-C808-4DBA-BBE2-F354D11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8004-EA01-4134-8204-6B496A2B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rco Pazmiño G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austo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85800"/>
            <a:ext cx="434484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Jorge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SUB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César Zanafria Niquinga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                     David Maya Almeida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 DE ASESORIA JURIDICA    DIRECTOR 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Marco Villavicencio Ortiz                        César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     SECRETARI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Ruth Puyol Cordero                      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A DE RECURSOS HUMANOS    DIRECTOR DE RECURSOS            Y SERVICIOS ADMINISTRATIVOS                 FINANCIEROS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dwin Buenaño Hermosa                    José Intriago Confo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 DE PRODUCCIÓN DE       DIRECTOR DE PRODU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STADÍSTICAS ECONÓMICAS     ESTADÍSTICAS SOCIO-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William Huertas Quish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 DE DESARROLLO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Jennifer Marcillo Chasy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       Jéssica Menéndez Cam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A REGIONAL DEL NORTE  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Mercedes Moncayo Núñez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              Rodrigo Segarra Aguir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DIRECTORA REGIONAL DEL CENTRO    DIRECTOR REGIONAL DEL SUR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ÑO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573408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                                                                                                             Y RELACIONES PÚB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11-06-22T16:42:23Z</dcterms:modified>
  <cp:revision>116</cp:revision>
  <dc:subject/>
  <dc:title>Sin título de diapositiva</dc:title>
</cp:coreProperties>
</file>