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335713" cy="9471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FC2-CF0C-420C-9A16-A1E022B6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2F9-99A9-467F-81D1-7CD0A10C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169-A6C4-4573-B9D1-FE6DFBD0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D33-167F-4E62-B4B5-32DD8701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7E0-BAF3-446D-9DD1-1B312FC4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E78-DB45-4967-9CDC-3106F408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1ED-BE46-4273-A171-32ECBE19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6E2-8690-46CD-A410-53EEDF23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281-92CC-4F80-B04A-A4E3B71E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776-2905-4237-A1B4-9914CED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1F4-704B-4A97-9EB7-91CB464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746-C948-4693-BEAB-BAAD3F2D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65A5-1B3E-4BB9-900E-678703C11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ADMINISTRACIÓN 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Estadísticas Estructurales de Empresas y Establecimientos Económ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rco Pazmiño G.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NÁLISIS DE SIST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austo F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Ò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685800"/>
            <a:ext cx="434484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Byron Villacís Cru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García Guerr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ésar Zanafria Niquinga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           David Maya Almeida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ASESORIA JURIDICA    DIRECTOR DE PLANIFICACIÓN (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arco Villavicencio Ortiz                        César Morales Pá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AUDITOR INTERNO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SECRETARIO GENE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Ruth Puyol Cordero                      Rossman Camacho Carr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DE RECURSOS HUMANOS    DIRECTOR DE RECURSOS            Y SERVICIOS ADMINISTRATIVOS                 FINANCIEROS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dwin Buenaño Hermosa                    José Intriago Confo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PRODUCCIÓN DE       DIRECTOR DE PRODUCCIÓN 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ESTADÍSTICAS ECONÓMICAS     ESTADÍSTICAS SOCIO-DEMOGRÁF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William Huertas Quish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 DE DESARROLLO TECNOLÓGICO ESTADÍST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ennifer Marcillo Chasy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  Jéssica Menéndez Camp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REGIONAL DEL NORTE  DIRECTORA REGIONAL DEL LITOR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Mercedes Moncayo Núñez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              Rodrigo Segarra Aguir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DIRECTORA REGIONAL DEL CENTRO    DIRECTOR REGIONAL DEL SUR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É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66680"/>
            <a:ext cx="27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ÑO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5734080"/>
            <a:ext cx="129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EDI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COMUNICAC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SOCIAL                                                                                                             Y RELACIONES PÚBL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IMPRESI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Ó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s-EC" sz="600" spc="-1" strike="noStrike">
                <a:solidFill>
                  <a:srgbClr val="000000"/>
                </a:solidFill>
                <a:latin typeface="Arial Black"/>
              </a:rPr>
              <a:t>IMPRENTA</a:t>
            </a:r>
            <a:r>
              <a:rPr b="0" lang="es-ES" sz="600" spc="-1" strike="noStrike">
                <a:solidFill>
                  <a:srgbClr val="000000"/>
                </a:solidFill>
                <a:latin typeface="Arial Black"/>
              </a:rPr>
              <a:t> DEL INE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655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mpazmino</cp:lastModifiedBy>
  <cp:lastPrinted>2001-01-30T18:59:46Z</cp:lastPrinted>
  <dcterms:modified xsi:type="dcterms:W3CDTF">2010-09-20T21:10:04Z</dcterms:modified>
  <cp:revision>115</cp:revision>
  <dc:subject/>
  <dc:title>Sin título de diapositiva</dc:title>
</cp:coreProperties>
</file>