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29D8-958A-4D3A-9674-F3E0C02F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64D-3467-4479-93B8-549DD951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0E8-098B-45F7-B181-0B031E93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91F0-C296-4FF6-BC83-CA0B03E8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CEE3-3084-428E-A424-2623DED3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7AF3-37E6-4A88-AB13-4B3825C3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BB8F-6D37-4193-9F5B-8E6946E4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128-548B-4070-8A2C-58B7D07E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D49-9332-401A-B7DD-A4825ED4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4B1-ECD1-4C20-A626-61745FE0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CAA-6A5F-4028-8E95-F7ECE32D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92CD-E58F-4032-B5AE-E635059A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563D-298F-4652-B683-D63A28AB6F2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8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7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Unidad de Estadísticas Económicas y Estructu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Francisco Camacho Dil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Juan Marcillo Delgado</a:t>
            </a: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Dirección de Tecnologías de la Información y Comun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María Casares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 Black"/>
              </a:rPr>
              <a:t>OPERACION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1"/>
          <p:cNvSpPr/>
          <p:nvPr/>
        </p:nvSpPr>
        <p:spPr>
          <a:xfrm>
            <a:off x="826920" y="692280"/>
            <a:ext cx="434520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José Rosero Moncay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Césa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r Zanafria Niquinga </a:t>
            </a: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                  </a:t>
            </a:r>
            <a:r>
              <a:rPr b="0" lang="es-ES" sz="800" spc="-1" strike="noStrike">
                <a:solidFill>
                  <a:srgbClr val="000000"/>
                </a:solidFill>
                <a:latin typeface="Arial Black"/>
              </a:rPr>
              <a:t>Adriano Molina Guzmá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 DE ASESORÍA JURÍDICA    DIRECTOR DE PLANIFICACIÓN (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Jorge Sandoval Atapuma               Brenda Sempértegui Vane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ECRETARIO GENERAL Y            DIRECTORA DE COMUN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GESTOR DOCUMENTAL (E)                              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Katia Enríquez Mora                  Rossman Camacho Carr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A DE ADMINISTRACIÓN       DIRECTOR ADMINISTRATIVO            Y DEL TALENTO HUMANO (E)                    FINANCIERO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Magaly Paredes Baño                        Jorge Luis Gómez Pala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A DE PRODUCCIÓN DE       DIRECTOR DE PRODUCCIÓN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ESTADÍSTICAS ECONÓMICAS     ESTADÍSTICAS SOCIODEMOGRÁF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Geoconda Ocampo Gavilánez                    Jorge García Guerr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A DE TECNOLOGÍAS                  COORDINAD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E LA INFORMACIÓN Y COMUNICACIÓN                      TÉ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Galo López Lindao                             Rosa Valle Piñue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 DE ESTUDIOS                  DIRECTORA DE INFORM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ANALÍTICOS ESTADÍSTICOS  (E)         CARTOGRÁFICA ESTADÍS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Christian Garcés Mayorga                   María Murgueitio Tamay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 DE METODOLOGÍAS          DIRECTORA DE ESTADÍS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Y NORMATIVAS DEL SEN   (E)                        AMBIENTALES (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            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PROCESOS A NIVEL REG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hyrley Padilla Proa                    Jéssica Menéndez Camp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A REGIONAL DEL NORTE  DIRECTORA REGIONAL DEL LI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Juanita Gamboa Vargas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Oswaldo Uyaguari Quez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A REGIONAL DEL CENTRO    DIRECTOR REGIONAL DEL SUR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30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33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2"/>
          <p:cNvSpPr/>
          <p:nvPr/>
        </p:nvSpPr>
        <p:spPr>
          <a:xfrm>
            <a:off x="5580000" y="1066680"/>
            <a:ext cx="27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AÑO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6"/>
          <p:cNvSpPr/>
          <p:nvPr/>
        </p:nvSpPr>
        <p:spPr>
          <a:xfrm>
            <a:off x="5435640" y="57340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EDIC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COMUNICAC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 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IMPRES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IMPRENTA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DEL INE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8" descr=""/>
          <p:cNvPicPr/>
          <p:nvPr/>
        </p:nvPicPr>
        <p:blipFill>
          <a:blip r:embed="rId5"/>
          <a:stretch/>
        </p:blipFill>
        <p:spPr>
          <a:xfrm>
            <a:off x="6877080" y="5589720"/>
            <a:ext cx="1655640" cy="792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35"/>
          <p:cNvSpPr/>
          <p:nvPr/>
        </p:nvSpPr>
        <p:spPr>
          <a:xfrm>
            <a:off x="3059280" y="189000"/>
            <a:ext cx="1828800" cy="53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11 CuadroTexto"/>
          <p:cNvSpPr/>
          <p:nvPr/>
        </p:nvSpPr>
        <p:spPr>
          <a:xfrm>
            <a:off x="1908000" y="9079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INEC Juan Carlos Marcillo</cp:lastModifiedBy>
  <cp:lastPrinted>2001-01-30T18:59:46Z</cp:lastPrinted>
  <dcterms:modified xsi:type="dcterms:W3CDTF">2012-12-26T21:36:03Z</dcterms:modified>
  <cp:revision>142</cp:revision>
  <dc:subject/>
  <dc:title>Sin título de diapositiva</dc:title>
</cp:coreProperties>
</file>