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331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228600"/>
            <a:ext cx="9220320" cy="6324480"/>
          </a:xfrm>
          <a:prstGeom prst="rect">
            <a:avLst/>
          </a:prstGeom>
          <a:solidFill>
            <a:srgbClr val="91cd9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79600" y="1449360"/>
            <a:ext cx="825156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ANUARIO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ESTADISTICAS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TRANSPORT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81280" y="5562720"/>
            <a:ext cx="3316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7086600" y="762120"/>
          <a:ext cx="20574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2057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210200" y="4100400"/>
          <a:ext cx="2266920" cy="13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0200" y="4100400"/>
                    <a:ext cx="226692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315200" y="4114800"/>
          <a:ext cx="198108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4114800"/>
                    <a:ext cx="19810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6320" y="4038480"/>
          <a:ext cx="1770120" cy="126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320" y="4038480"/>
                    <a:ext cx="177012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 rot="10800000">
          <a:off x="762120" y="399240"/>
          <a:ext cx="2361960" cy="118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762120" y="399240"/>
                    <a:ext cx="23619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5T19:27:40Z</dcterms:created>
  <dc:creator>César Caamaño Barba</dc:creator>
  <dc:description/>
  <dc:language>en-US</dc:language>
  <cp:lastModifiedBy>mpazmino</cp:lastModifiedBy>
  <cp:lastPrinted>1999-12-14T20:00:59Z</cp:lastPrinted>
  <dcterms:modified xsi:type="dcterms:W3CDTF">2003-12-02T14:53:44Z</dcterms:modified>
  <cp:revision>18</cp:revision>
  <dc:subject/>
  <dc:title>Sin título de diapositiva</dc:title>
</cp:coreProperties>
</file>