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006-9F78-478D-B17A-E25E0E75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6FE-F3B0-4705-B8A5-545C2A67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C13-AF33-43A8-916E-F9BF69C6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160-A9B2-4059-902E-32C25F71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210-ED2B-43A1-99E3-3BD047E2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B2A-612D-42D8-A552-D1F72282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FA2-CB0E-424A-81AA-F4085AC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F91-622D-44FF-B650-06B8D31E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3D0-5A7C-4AC0-B3ED-4CE5BE81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6A2-27A0-49F9-BE06-4C7ABEAC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68D-395B-4F82-9851-176727DC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38F-D737-4F6D-A11B-B1DECCC7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1389-E040-4F0A-A754-87E4D062B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4724280" cy="5257800"/>
          </a:xfrm>
          <a:custGeom>
            <a:avLst/>
            <a:gdLst>
              <a:gd name="textAreaLeft" fmla="*/ 230400 w 4724280"/>
              <a:gd name="textAreaRight" fmla="*/ 4493880 w 4724280"/>
              <a:gd name="textAreaTop" fmla="*/ 230400 h 5257800"/>
              <a:gd name="textAreaBottom" fmla="*/ 5027400 h 5257800"/>
            </a:gdLst>
            <a:ahLst/>
            <a:rect l="textAreaLeft" t="textAreaTop" r="textAreaRight" b="textAreaBottom"/>
            <a:pathLst>
              <a:path w="21600" h="24039">
                <a:moveTo>
                  <a:pt x="3600" y="0"/>
                </a:moveTo>
                <a:arcTo wR="3600" hR="3600" stAng="16200000" swAng="-5400000"/>
                <a:lnTo>
                  <a:pt x="0" y="20439"/>
                </a:lnTo>
                <a:arcTo wR="3600" hR="3600" stAng="10800000" swAng="-5400000"/>
                <a:lnTo>
                  <a:pt x="18000" y="24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3701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C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426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rmán Rojas Idrovo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2209680"/>
            <a:ext cx="236232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 JURI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Vicente Sobrevilla Valle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DE DESARROLLO ESTADÍ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Y PLANIFICAC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esar Amores Le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DE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dison Panamá Mor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DE RECURSOS HUMANO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RVICIOS ADMINISTRATIVOS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iovani Guerra Corr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Colón Jaramillo Veg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A DE ESTADÍSTICAS ECONÓMICAS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rnesto Caizaguano Vim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A DE ESTADÍSTICAS  SOCIO-DEMOGRÁF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Tania Pérez Ram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A DE INFORMÁ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Italia Carbonell Yonf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Luis Horna Huaraca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Mauricio Rodríguez Lóp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A REGIONAL DEL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Lucia Domínguez V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RECTORA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Mariana Torres de Bustaman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"/>
            <a:ext cx="853452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 rot="10800000">
          <a:off x="914400" y="380520"/>
          <a:ext cx="12193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0800000">
                    <a:off x="914400" y="380520"/>
                    <a:ext cx="1219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3244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lbertus Medium"/>
              </a:rPr>
              <a:t>AÑO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371600"/>
            <a:ext cx="2971800" cy="29718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46640" y="1600200"/>
            <a:ext cx="2540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PARTAMENTO DE ESTAD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UST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turo de la Cadena           Marco Pazmi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ÁLISIS DE 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952880"/>
            <a:ext cx="2819520" cy="15242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5880" y="5216400"/>
            <a:ext cx="13708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lbertus Medium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lbertus Medium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5400"/>
            <a:ext cx="441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UBDIRECTOR GENERAL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UBDIRECTOR GENERAL TÉCN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rge Magaldi Sánchez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Galo Arias Velo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7:50:44Z</dcterms:created>
  <dc:creator>Estadísticas Industriales</dc:creator>
  <dc:description/>
  <dc:language>en-US</dc:language>
  <cp:lastModifiedBy>mpazmino</cp:lastModifiedBy>
  <cp:lastPrinted>1999-08-24T16:17:00Z</cp:lastPrinted>
  <dcterms:modified xsi:type="dcterms:W3CDTF">2003-12-02T15:01:20Z</dcterms:modified>
  <cp:revision>28</cp:revision>
  <dc:subject/>
  <dc:title>Sin título de diapositiva</dc:title>
</cp:coreProperties>
</file>