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FA5-2186-4D91-8D42-20C53EC6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517-31C2-410B-9590-804627E1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A2F-DD68-40DD-88A2-01A4EA54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4E2-FBD8-4A4C-B4F7-AFAD7216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978-E2E4-4366-948C-F5F62752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FB3-09C5-44BD-A887-2C11F02C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C26-0039-4C1A-8C80-5E5CCD83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4CC-14F6-47C9-BD3D-FB0CD2CE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23B-065A-4811-BB96-FA902D5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9FE-D031-4ECA-B5BA-D90E1643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23D-E82C-424E-9DD7-8AB4D834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21D-7982-47D3-BBB4-68E5BC2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C5BB-1832-4C49-A202-5191CFC83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739152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134928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828800"/>
            <a:ext cx="656928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de 19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La Dirección General de Tránsito, la Comisión de Tránsito del Guayas, la Empresa  de  Ferrocarriles   del Estado, la Dirección de Aviación Civil y  las Capitanías de Puerto,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, por la colaboración prestada y al mismo tiempo les reitera el pedí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mpazmino</cp:lastModifiedBy>
  <dcterms:modified xsi:type="dcterms:W3CDTF">2003-12-02T15:01:50Z</dcterms:modified>
  <cp:revision>12</cp:revision>
  <dc:subject/>
  <dc:title>Sin título de diapositiva</dc:title>
</cp:coreProperties>
</file>