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AA5-9DEC-4AFB-8B44-D6A6F650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787-0877-4872-8C7C-327870B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34D-8416-4E34-A516-EC9A3A3F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EAB-FEDF-45AC-89CB-4BF633F3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976-1ED9-4502-8DA0-42266EBD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645-FC31-4593-B7C1-E8F857A5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B1D-58AD-436C-AFC7-E692B774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341-1135-4A0D-99B6-89A61C1E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903-219F-4E7C-A6D7-FBD03FB2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3EE-6062-4497-B73C-130888E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FA3-A19F-4EA2-86A8-1F201D0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268-B6D0-4D3A-9E52-E225E54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41C9-9EBA-4343-A5BF-4FFDBA32252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25780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257800"/>
              <a:gd name="textAreaBottom" fmla="*/ 502740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16200000" swAng="-5400000"/>
                <a:lnTo>
                  <a:pt x="0" y="20439"/>
                </a:lnTo>
                <a:arcTo wR="3600" hR="3600" stAng="10800000" swAng="-5400000"/>
                <a:lnTo>
                  <a:pt x="18000" y="24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ohny CevallosMuñoz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209680"/>
            <a:ext cx="23623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 JURI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José Patricio Ron Tor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DE DESARROLL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Y PLANIF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DE RECURSOS HUMAN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DE ESTADÍSTICAS  SOCIO-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DE INFORMÁ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ené Tamayo Silva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AÑO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2971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540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PARTAMENTO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ro de la Cadena     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5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880" y="5216400"/>
            <a:ext cx="1370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lbertus Medium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lbertus Medium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UBDIRECTOR GENERAL TÉCN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mpazmino</cp:lastModifiedBy>
  <cp:lastPrinted>1999-08-24T16:17:00Z</cp:lastPrinted>
  <dcterms:modified xsi:type="dcterms:W3CDTF">2003-12-02T21:22:27Z</dcterms:modified>
  <cp:revision>29</cp:revision>
  <dc:subject/>
  <dc:title>Sin título de diapositiva</dc:title>
</cp:coreProperties>
</file>