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4BF-4B70-4E6D-BE17-AA739534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71A-DD0B-4727-B06C-044079E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B40-66AF-433E-B02E-BF5E01F3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478-7599-4821-9119-52AC1E78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A2D-3098-4A73-8620-CAD6034B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375-D402-4748-9BBB-993061A9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DF6-F13B-49E2-8BA7-BE79C3D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8C6-6F56-4785-81A5-A6796C57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473-5D1E-492C-BA91-328C1EA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FA7-BD8E-4D23-9D27-508BA2E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EAE-3D0F-4AE1-A77C-756F655D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929-CD6D-4273-A906-BAFBA61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2A84-F01F-4092-BFE2-8AD1C3C18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134928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828800"/>
            <a:ext cx="6569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de 19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La Dirección General de Tránsito, la Comisión de Tránsito del Guayas, la Empresa  de  Ferrocarriles   del Estado, la Dirección de Aviación Civil y  las Capitanías de Puerto,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, por la colaboración prestada y al mismo tiempo les reitera el pedí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dcterms:modified xsi:type="dcterms:W3CDTF">2003-12-03T12:47:18Z</dcterms:modified>
  <cp:revision>13</cp:revision>
  <dc:subject/>
  <dc:title>Sin título de diapositiva</dc:title>
</cp:coreProperties>
</file>