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963-7AD4-45A2-B81B-C7E49298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9A0-3EE7-413B-A6E6-A9920B2C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242-2598-4DB9-9E6E-7BDD3857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5E9-D2A6-479F-AED0-B9A8F231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AB9-02C5-45C8-9D9A-DD46EBC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F18-A77B-4B7E-BBB4-59BC6F8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E5-7973-4C0C-95EF-9A963449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B23-3340-480C-A516-609C479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8F2-4DF4-406D-B0E0-F6548B8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058-5F37-47A3-B272-42A7DF3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BBA-0EDF-412A-838C-6A3ADB0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DCB-AD21-4336-AE16-2E9FFF8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F835-538E-47E0-8C9B-48E44B63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25780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257800"/>
              <a:gd name="textAreaBottom" fmla="*/ 502740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16200000" swAng="-5400000"/>
                <a:lnTo>
                  <a:pt x="0" y="20439"/>
                </a:lnTo>
                <a:arcTo wR="3600" hR="3600" stAng="10800000" swAng="-5400000"/>
                <a:lnTo>
                  <a:pt x="18000" y="24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y Cevallos Muñoz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209680"/>
            <a:ext cx="2286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sé Patricio Ron Tor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DESARROLLO ESTADI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Y PLANIFICAC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ESTADISTICAS 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ESTADISTICAS  SOCIO-DEMOGRA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INFORMA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ynthia Alvarez Vásquez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AÑO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PARTAMENTO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ro de la Cadena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ómulo Gonzá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5216400"/>
            <a:ext cx="1370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lbertus Medium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lbertus Medium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UBDIRECTOR GENERAL TE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mpazmino</cp:lastModifiedBy>
  <cp:lastPrinted>1999-08-24T16:17:00Z</cp:lastPrinted>
  <dcterms:modified xsi:type="dcterms:W3CDTF">2003-12-08T14:23:21Z</dcterms:modified>
  <cp:revision>28</cp:revision>
  <dc:subject/>
  <dc:title>Sin título de diapositiva</dc:title>
</cp:coreProperties>
</file>