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DA0-EBDC-47AF-BE99-7170FEC1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0EC-DC9A-4935-884A-28359C4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4A8-103E-4912-A988-DD0FB137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E2-8EA9-48C1-BB56-AA4177C2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118-1AE0-4159-851C-795B1BF8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063-03DD-42B3-B721-D27528F4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F8E-F573-4D87-A66C-6909B583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53F-0D41-4C74-A5A2-AF7BD8D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15E-2380-483D-A394-B1DCC66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363-B66F-4B59-BF11-9D1760D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365-4C5B-40DE-8405-C7C8599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D4F-DB24-4DBC-AB3E-974731F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35D5-B76A-46CF-A432-69A01190A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134928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828800"/>
            <a:ext cx="6569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d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La Dirección General de Tránsito, la Comisión de Tránsito del Guayas, la Empresa  de  Ferrocarriles   del Estado, la Dirección de Aviación Civil y  las Capitanías de Puerto,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, por la colaboración prestada y al mismo tiempo les reitera el pedí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dcterms:modified xsi:type="dcterms:W3CDTF">2003-12-08T14:23:49Z</dcterms:modified>
  <cp:revision>12</cp:revision>
  <dc:subject/>
  <dc:title>Sin título de diapositiva</dc:title>
</cp:coreProperties>
</file>