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59C-7B5E-4765-A0A3-25AF19C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C28-4114-4F2A-9116-26812A27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E0B-6525-45B6-8895-14D324B0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DEE-4107-47CF-A038-16EC4E00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A364-8F37-4737-8BA5-30DA1CE3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E1F4-EC03-4FBA-96BC-D4CCC76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B3D2-7B25-4539-81F3-D90F014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975-96DE-43EF-B0B7-90144EB2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D3F5-5251-4490-BBBF-D912257E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3DE6-2A17-4B61-922E-26C4B24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E938-5C23-4A05-87F4-5C797A5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1A7-CD5B-475A-82EC-05A6482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9CE8-8F68-403D-8727-87C70DB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300E-1467-421B-ADFF-CDEE78B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BEE9-2D16-4C9D-9A60-A5AA72A5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086-F253-4DB8-821E-DEC47ED0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9940-3709-4CF7-A1E8-E52C2E79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746-405D-4CA8-9D08-4A3DC79B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307-C03D-46B2-8B8B-14CFEEAF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E00-B908-4A2A-AEDA-F125A62C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717-86D7-402C-BB0D-E00AE2EF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A18-95EE-4E0A-93BC-41E680C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23A-B450-4335-AAE2-7DA7C08C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B79-C1DD-4DEB-B710-43E188C0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7BE-336A-450F-BE6D-AA59B2D1473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5BC5-75A4-45E4-B718-18D7B0B428E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828800" y="609480"/>
            <a:ext cx="6248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CONÓMI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4724280"/>
            <a:ext cx="76960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OTACIONES DE ECONÓMIA 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819520" y="1679400"/>
            <a:ext cx="3429000" cy="33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 rot="10800000">
          <a:off x="6477120" y="2057400"/>
          <a:ext cx="228600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0800000">
                    <a:off x="6477120" y="2057400"/>
                    <a:ext cx="22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9:05:58Z</dcterms:created>
  <dc:creator>INEC</dc:creator>
  <dc:description/>
  <dc:language>en-US</dc:language>
  <cp:lastModifiedBy>INEC</cp:lastModifiedBy>
  <cp:lastPrinted>2003-09-10T19:16:02Z</cp:lastPrinted>
  <dcterms:modified xsi:type="dcterms:W3CDTF">2003-09-10T19:20:16Z</dcterms:modified>
  <cp:revision>1</cp:revision>
  <dc:subject/>
  <dc:title>Sin título de diapositiva</dc:title>
</cp:coreProperties>
</file>