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67067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DE9A6-E63A-4F98-B9E5-B79105BC4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05A94-C631-4359-84DB-16D07B873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F47F0-3D86-48BE-87DC-6C7B08C1D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08CB8-FEA6-463D-8FAB-86C6487D4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D856F-A4B5-4D4F-AA1A-2A687FD6B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85854-869F-4A88-96B2-656A0873B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B7F02-1EB8-43A2-88ED-279A99670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EC720-3ABF-4805-BFCD-E98C1ED69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5F40A-6F47-406D-B6E4-E78289B73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C0960-7A89-4191-81C7-B530199A5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C9C24-29FA-4B99-8340-F3CE640A2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9A3A8-EC8D-4842-93F5-5253F5E2C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F01DD-4CE7-48D8-A71F-9CFA590514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295280"/>
            <a:ext cx="4724280" cy="5181840"/>
          </a:xfrm>
          <a:custGeom>
            <a:avLst/>
            <a:gdLst>
              <a:gd name="textAreaLeft" fmla="*/ 230400 w 4724280"/>
              <a:gd name="textAreaRight" fmla="*/ 4493880 w 4724280"/>
              <a:gd name="textAreaTop" fmla="*/ 230400 h 5181840"/>
              <a:gd name="textAreaBottom" fmla="*/ 4951440 h 5181840"/>
            </a:gdLst>
            <a:ahLst/>
            <a:rect l="textAreaLeft" t="textAreaTop" r="textAreaRight" b="textAreaBottom"/>
            <a:pathLst>
              <a:path w="21600" h="23692">
                <a:moveTo>
                  <a:pt x="3600" y="0"/>
                </a:moveTo>
                <a:arcTo wR="3600" hR="3600" stAng="16200000" swAng="-5400000"/>
                <a:lnTo>
                  <a:pt x="0" y="20092"/>
                </a:lnTo>
                <a:arcTo wR="3600" hR="3600" stAng="10800000" swAng="-5400000"/>
                <a:lnTo>
                  <a:pt x="18000" y="2369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981080" y="1370160"/>
            <a:ext cx="177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DIRECTO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2120" y="1828800"/>
            <a:ext cx="4267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IRECTOR GENERAL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íctor Manuel Escobar P.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676520" y="2209680"/>
            <a:ext cx="2286000" cy="43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AUDITOR GENER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" spc="-1" strike="noStrike">
                <a:solidFill>
                  <a:srgbClr val="000000"/>
                </a:solidFill>
                <a:latin typeface="Arial"/>
              </a:rPr>
              <a:t>Marco Villavicencio Ortiz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DIRECTORA DE ASUNTOS JURÍDICOS (E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" spc="-1" strike="noStrike">
                <a:solidFill>
                  <a:srgbClr val="000000"/>
                </a:solidFill>
                <a:latin typeface="Arial"/>
              </a:rPr>
              <a:t>Flavia Racines Carrasc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DIRECTOR DE DESARROLLO ESTADÍSTIC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Y PLANIFICACIÓ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" spc="-1" strike="noStrike">
                <a:solidFill>
                  <a:srgbClr val="000000"/>
                </a:solidFill>
                <a:latin typeface="Arial"/>
              </a:rPr>
              <a:t>Milton Naranjo R.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DIRECTOR DE DIFUSIÓN ESTADÍSTIC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" spc="-1" strike="noStrike">
                <a:solidFill>
                  <a:srgbClr val="000000"/>
                </a:solidFill>
                <a:latin typeface="Arial"/>
              </a:rPr>
              <a:t>Alexis Pérez Niet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DIRECTOR DE RECURSOS HUMANOS 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SERVICIOS ADMINISTRATIVOS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" spc="-1" strike="noStrike">
                <a:solidFill>
                  <a:srgbClr val="000000"/>
                </a:solidFill>
                <a:latin typeface="Arial"/>
              </a:rPr>
              <a:t>César Fierro Can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DIRECTOR FINANCIERO (E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" spc="-1" strike="noStrike">
                <a:solidFill>
                  <a:srgbClr val="000000"/>
                </a:solidFill>
                <a:latin typeface="Arial"/>
              </a:rPr>
              <a:t>Orlando Narváez Enríquez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DIRECTOR DE ESTADÍSTICAS ECONÓMICAS (E)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600" spc="-1" strike="noStrike">
                <a:solidFill>
                  <a:srgbClr val="000000"/>
                </a:solidFill>
                <a:latin typeface="Arial"/>
              </a:rPr>
              <a:t>Arturo de la Cadena B.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DIRECTORA DE ESTADÍSTICA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SOCIO-DEMOGRÁFICAS (E)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" spc="-1" strike="noStrike">
                <a:solidFill>
                  <a:srgbClr val="000000"/>
                </a:solidFill>
                <a:latin typeface="Arial"/>
              </a:rPr>
              <a:t>Pilar Ortiz Mejí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DIRECTOR DE INFORMÁTIC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" spc="-1" strike="noStrike">
                <a:solidFill>
                  <a:srgbClr val="000000"/>
                </a:solidFill>
                <a:latin typeface="Arial"/>
              </a:rPr>
              <a:t>Carlos Calispa Pedraz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DIRECTOR REGIONAL DEL NOR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" spc="-1" strike="noStrike">
                <a:solidFill>
                  <a:srgbClr val="000000"/>
                </a:solidFill>
                <a:latin typeface="Arial"/>
              </a:rPr>
              <a:t>Edwin Fuertes López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DIRECTOR REGIONAL DEL CENTR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" spc="-1" strike="noStrike">
                <a:solidFill>
                  <a:srgbClr val="000000"/>
                </a:solidFill>
                <a:latin typeface="Arial"/>
              </a:rPr>
              <a:t>Fernando Sandov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DIRECTOR REGIONAL DEL SUR (E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" spc="-1" strike="noStrike">
                <a:solidFill>
                  <a:srgbClr val="000000"/>
                </a:solidFill>
                <a:latin typeface="Arial"/>
              </a:rPr>
              <a:t>Oswaldo Uyaguari Quezad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DIRECTOR REGIONAL DEL LITORAL (E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" spc="-1" strike="noStrike">
                <a:solidFill>
                  <a:srgbClr val="000000"/>
                </a:solidFill>
                <a:latin typeface="Arial"/>
              </a:rPr>
              <a:t>Roberto Sáenz Ozaett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80880" y="228600"/>
            <a:ext cx="8534520" cy="76212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" name=""/>
          <p:cNvGraphicFramePr/>
          <p:nvPr/>
        </p:nvGraphicFramePr>
        <p:xfrm rot="10800000">
          <a:off x="914400" y="380520"/>
          <a:ext cx="1219320" cy="457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 rot="10800000">
                    <a:off x="914400" y="380520"/>
                    <a:ext cx="121932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"/>
          <p:cNvSpPr/>
          <p:nvPr/>
        </p:nvSpPr>
        <p:spPr>
          <a:xfrm>
            <a:off x="6324480" y="38088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ÑO 20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791320" y="1371600"/>
            <a:ext cx="2971800" cy="2971800"/>
          </a:xfrm>
          <a:prstGeom prst="roundRect">
            <a:avLst>
              <a:gd name="adj" fmla="val 16667"/>
            </a:avLst>
          </a:prstGeom>
          <a:blipFill rotWithShape="0">
            <a:blip r:embed="rId5"/>
            <a:srcRect/>
            <a:tile tx="0" ty="0" sx="100000" sy="100000" algn="ctr"/>
          </a:blip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146640" y="1600200"/>
            <a:ext cx="2540160" cy="22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PERSONAL TÉCNICO RESPONSAB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ADMINISTRACIÓN CENTR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DEPARTAMENTO DE ESTADÍSTIC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INDUSTRIA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ime Cevallos           Marco Pazmiñ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ANÁLISIS DE SISTEM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austo Sánchez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REGIONAL DEL LITOR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rio Merchá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943600" y="4952880"/>
            <a:ext cx="2819520" cy="1524240"/>
          </a:xfrm>
          <a:prstGeom prst="roundRect">
            <a:avLst>
              <a:gd name="adj" fmla="val 16667"/>
            </a:avLst>
          </a:prstGeom>
          <a:blipFill rotWithShape="0">
            <a:blip r:embed="rId6"/>
            <a:srcRect/>
            <a:tile tx="0" ty="0" sx="100000" sy="100000" algn="ctr"/>
          </a:blip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545160" y="5216400"/>
            <a:ext cx="1552320" cy="10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IMPRES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TALLERES GRÁFIC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2165400"/>
            <a:ext cx="441972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SUBDIRECTOR GENERAL</a:t>
            </a: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                                               SUBDIRECTOR GENERAL TÉCNIC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Jorge Magaldi Sánchez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Galo Arias Veloz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21T17:50:44Z</dcterms:created>
  <dc:creator>Estadísticas Industriales</dc:creator>
  <dc:description/>
  <dc:language>en-US</dc:language>
  <cp:lastModifiedBy>INEC</cp:lastModifiedBy>
  <cp:lastPrinted>2003-08-22T15:52:44Z</cp:lastPrinted>
  <dcterms:modified xsi:type="dcterms:W3CDTF">2003-09-22T18:37:30Z</dcterms:modified>
  <cp:revision>35</cp:revision>
  <dc:subject/>
  <dc:title>Sin título de diapositiva</dc:title>
</cp:coreProperties>
</file>