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D10-069B-470F-97D2-387DA812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4F3-0C9C-41F3-8076-2B34C92C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069-5545-4380-9BEB-FB7C61E1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D90-EAB1-438E-8A3C-198A89BF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9A1-6CFC-4B70-BBB5-BCF914CE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6C7-D057-40F3-8A52-DBE0207C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DA4-C8B5-4D7C-B59D-EAF1CEF9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9AA-8D20-47E0-8F7B-7A9FFD60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674-7DDA-4A86-A719-7EF24BC3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295-B739-4C0D-B2D8-18D8BC7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FEA-0302-4FF5-AF7C-FD3E539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936-AAFC-42A0-8559-3C25BDB6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3AD0-7592-490D-884C-0D3DF3F17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04920"/>
            <a:ext cx="7391520" cy="57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47680" y="685800"/>
            <a:ext cx="14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lbertus Medium"/>
              </a:rPr>
              <a:t>PRES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040" y="1066680"/>
            <a:ext cx="656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stituto Nacional de Estadística y Censos (INEC), tiene a bien poner a disposición de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general, los resultados del Anuario de Estadísticas de Transporte correspondiente al año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presente publicación contiene información referente 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hículos motorizados matricul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cidentes de tráns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Ferrovi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Aére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 de Cabotaje y Marítimo Inter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s fuentes de información que hicieron posible la preparación de este Anuario son: La Dirección General de Tránsito, la Comisión de Tránsito del Guayas, la Empresa  de  Ferrocarriles   del estado, la Dirección de Aviación Civil y  las Capitanías de Puerto dependientes  de  la Dirección de la Marina Merc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EC, al hacer la entrega de este documento, deja constancia de su agradecimiento a las Instituciones antes mencionadas, por la colaboración prestada y al mismo tiempo les reitera el p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 cordial de seguir proporcionando en forma oportuna los datos que se  requieren  para la preparación  de esta publicación, cuya finalidad es satisfacer los requerimientos de  los  usuarios, de quienes esper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s sus valiosos comentarios, a fin de mejorar en lo posterior su contenido y presen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ra este año no fue posible contar con la información referente a Accidentes de Tráns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 y Víctimas de la Provincia del Guayas, debido a fallas en el servidor del Centro de Cómputo de la Comisión de Tránsito del Guay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9:38:20Z</dcterms:created>
  <dc:creator>Estadísticas Industriales</dc:creator>
  <dc:description/>
  <dc:language>en-US</dc:language>
  <cp:lastModifiedBy>INEC</cp:lastModifiedBy>
  <cp:lastPrinted>2003-08-14T19:08:22Z</cp:lastPrinted>
  <dcterms:modified xsi:type="dcterms:W3CDTF">2003-09-08T16:17:00Z</dcterms:modified>
  <cp:revision>14</cp:revision>
  <dc:subject/>
  <dc:title>Sin título de diapositiva</dc:title>
</cp:coreProperties>
</file>