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331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228600"/>
            <a:ext cx="9220320" cy="6324480"/>
          </a:xfrm>
          <a:prstGeom prst="rect">
            <a:avLst/>
          </a:prstGeom>
          <a:solidFill>
            <a:srgbClr val="91cd9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1449360"/>
            <a:ext cx="825156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Í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7086600" y="762120"/>
          <a:ext cx="20574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2057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210200" y="4100400"/>
          <a:ext cx="2266920" cy="13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0200" y="4100400"/>
                    <a:ext cx="22669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315200" y="4114800"/>
          <a:ext cx="19810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4114800"/>
                    <a:ext cx="19810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4038480"/>
          <a:ext cx="1770120" cy="12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4038480"/>
                    <a:ext cx="17701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 rot="10800000">
          <a:off x="762120" y="399240"/>
          <a:ext cx="236196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762120" y="399240"/>
                    <a:ext cx="23619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dc:language>en-US</dc:language>
  <cp:lastModifiedBy>INEC</cp:lastModifiedBy>
  <cp:lastPrinted>2003-09-08T16:08:41Z</cp:lastPrinted>
  <dcterms:modified xsi:type="dcterms:W3CDTF">2003-09-08T16:09:20Z</dcterms:modified>
  <cp:revision>19</cp:revision>
  <dc:subject/>
  <dc:title>Sin título de diapositiva</dc:title>
</cp:coreProperties>
</file>